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gif" ContentType="image/gif"/>
  <Override PartName="/ppt/media/image9.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move the slide</a:t>
            </a:r>
            <a:endParaRPr b="0" lang="en-US" sz="4400" spc="-1" strike="noStrike">
              <a:solidFill>
                <a:srgbClr val="ffffff"/>
              </a:solidFill>
              <a:latin typeface="Copperplate Gothic Bold"/>
            </a:endParaRPr>
          </a:p>
        </p:txBody>
      </p:sp>
      <p:sp>
        <p:nvSpPr>
          <p:cNvPr id="85" name="PlaceHolder 4"/>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0EA4B64-C44A-451F-8C20-059AE2277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7920" y="695160"/>
            <a:ext cx="4641840" cy="3481560"/>
          </a:xfrm>
          <a:prstGeom prst="rect">
            <a:avLst/>
          </a:prstGeom>
          <a:ln w="0">
            <a:noFill/>
          </a:ln>
        </p:spPr>
      </p:sp>
      <p:sp>
        <p:nvSpPr>
          <p:cNvPr id="15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consejería es un proceso, como también una relación entre personas.  Contrario a lo que cree la mayoría, la consejería no se centra en dar consejos. El blanco del consejero generalmente es ayudar a la persona, o a las personas (cliente o clientes) a realizar un cambio de conducta o actitud, o buscar la realización de metas. A menudo existe una variedad de problemas por los cuales el aconsejado puede estar buscando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formas de consejería incluyen el aprendizaje de habilidades sociales, comunicación efectiva, guía espiritual, toma de decisiones y elección de carreras.  Algunas veces, puede ser necesario buscar consejo para ayudar a alguien a superar una crisis. Otros tipos de consejería incluyen: consejería prematrimonial y matrimonial;  en duelo y pérdidas (divorcio, muerte o amputación); violencia familiar y otros tipos de abuso; situaciones especiales de consejería tales como enfermedades terminales (cómo enfrentar la muerte, muerte); como también la consejería de individuos con disturbios mentales y emocionales. La consejería puede ser a corto o largo plaz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5160"/>
            <a:ext cx="4641840" cy="3481560"/>
          </a:xfrm>
          <a:prstGeom prst="rect">
            <a:avLst/>
          </a:prstGeom>
          <a:ln w="0">
            <a:noFill/>
          </a:ln>
        </p:spPr>
      </p:sp>
      <p:sp>
        <p:nvSpPr>
          <p:cNvPr id="17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conducti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rapia conductista es la más estudiada y conocida de todas las propuestas de consejería. Existe un número de figuras claves asociadas con esta teoría:  Arnold Lazarus, Albert Bandura, B.F. Skinner, M.J. Mahoney, David L. Watson, A.E. Kazdin.  La terapia conductista tiene muchos métodos orientados a la acción; que ayudan a la gente a dar pasos para cambiar lo que están haciendo y pens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términos que se utilizan con frecuencia en esta terapia son </a:t>
            </a:r>
            <a:r>
              <a:rPr b="0" i="1" lang="es-ES" sz="1200" spc="-1" strike="noStrike">
                <a:solidFill>
                  <a:srgbClr val="000000"/>
                </a:solidFill>
                <a:latin typeface="Times New Roman"/>
              </a:rPr>
              <a:t>modificación de conducta y terapia conductista.</a:t>
            </a:r>
            <a:r>
              <a:rPr b="0" lang="es-ES" sz="1200" spc="-1" strike="noStrike">
                <a:solidFill>
                  <a:srgbClr val="000000"/>
                </a:solidFill>
                <a:latin typeface="Times New Roman"/>
              </a:rPr>
              <a:t>  Se centra en manifestar conductas, precisión y especificación de metas de tratamiento, y el desarrollo específico de planes de tratamiento. El terapeuta es activo y direccional. Funciona como un maestro o entrenador ayudando a los clientes a trabajar en mejorar conductas. </a:t>
            </a:r>
            <a:r>
              <a:rPr b="0" i="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e la terapia conductista con las otras propuestas que hemos visto hasta el mo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algunas ventajas, desventajas y limitaciones que puede distingui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emotiva-racional (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bert Ellis (b.1913) es el fundador de la terapia emotiva-racional. Esta terapia es una forma de terapia conductista con una orientación cognitiva, y está basada en la idea de que los seres humanos nacen con un potencial tanto racional o de pensamiento recto, como irracional o pensamiento tor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a por sentado que las personas son falibles, TER intenta ayudarlas a aceptarse a sí mismas como personas que continuarán cometiendo errores, y sin embargo, al mismo tiempo, pueden aprender a vivir consigo mismos y estar en paz consigo mismos. TER enfatiza: pensar, juzgar, decidir y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lis enfatiza que la gente elige perturbarse en vez de pensar que está condicionada por fuerzas externas.  La tendencia de la gente es a inventar creencias perturbadoras y a mantenerse inquietos por estas creencias. La 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asume que la gente posee la capacidad de cambiar sus procesos cognitivos, emotivos y conductistas; pueden elegir reaccionar diferente a los patrones comunes y rehusar estar de mal humor, y entrenarse a sí mismos de manera que su patrón de conducta será de perturbación míni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 experimentado de repetirse a usted misma ciertas ideas para al fin terminar creyéndolas?  ¿Fueron esas ideas placenteras o desagradabl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de l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illiam Glasser (b.1925) fundó la terapia de la realidad. Esta terapia es una propuesta a corto plazo, con un enfoque en el presente. Se enfoca en las fortalezas y énfasis de la persona; en que el cliente puede aprender una conducta más realista y por lo tanto lograr éxito. Los terapeutas realistas asumen que nosotros elegimos nuestro comportamiento y por lo tanto somos responsables no solamente por lo que estamos haciendo ahora sino por lo que pensamos y sentim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area del consejero que emplea este tipo de terapia es establecer una relación tal con el cliente, que lo anime a mejorar su estilo de vida actual. Por un proceso de auto examen honesto, se cree que el cliente puede mejorar su calidad de v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l auto examen, los clientes deciden cambios específicos deseables, se formulan planes y se establece un compromiso de seguimiento. A menudo se utiliza un contrato. Cuando se cumple con el contrato, termina la terap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odría hacer en una situación donde el cliente se rehúsa consistentemente a hacer cualquier plan o cambio?  ¿Qué harías con un cliente que hace planes para cambiar pero no los lleva a la prác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s propuestas de consejería ofrecen ideas y un trasfondo para poder aconsejar. Ninguna propuesta es completa en sí misma. Cuando se las coloca en perspectiva, estas propuestas pueden contribuir a ayudar a la gente que se encuentra acongojada. Muchos utilizan una integración de propuestas.  En algunos lugares se la llama </a:t>
            </a:r>
            <a:r>
              <a:rPr b="0" i="1" lang="es-ES" sz="1200" spc="-1" strike="noStrike">
                <a:solidFill>
                  <a:srgbClr val="000000"/>
                </a:solidFill>
                <a:latin typeface="Times New Roman"/>
              </a:rPr>
              <a:t>consejería ecléctica.</a:t>
            </a:r>
            <a:r>
              <a:rPr b="0" lang="es-ES" sz="1200" spc="-1" strike="noStrike">
                <a:solidFill>
                  <a:srgbClr val="000000"/>
                </a:solidFill>
                <a:latin typeface="Times New Roman"/>
              </a:rPr>
              <a:t> Se entiende por </a:t>
            </a:r>
            <a:r>
              <a:rPr b="0" i="1" lang="es-ES" sz="1200" spc="-1" strike="noStrike">
                <a:solidFill>
                  <a:srgbClr val="000000"/>
                </a:solidFill>
                <a:latin typeface="Times New Roman"/>
              </a:rPr>
              <a:t>psicología ecléctica</a:t>
            </a:r>
            <a:r>
              <a:rPr b="0" lang="es-ES" sz="1200" spc="-1" strike="noStrike">
                <a:solidFill>
                  <a:srgbClr val="000000"/>
                </a:solidFill>
                <a:latin typeface="Times New Roman"/>
              </a:rPr>
              <a:t>, a la selección de conceptos y métodos de una variedad de teorías y sistemas. De acuerdo con Williamson, “Aconsejar… puede definirse como lo que abarca una gran variedad de técnicas, de cuyo repertorio selecciona el consejero efectivo…aquello que es relevante y apropiado a la naturaleza del problema del cliente y a otros rasgos de la situación…” (Williamson, E.g. citado en </a:t>
            </a:r>
            <a:r>
              <a:rPr b="0" i="1" lang="es-ES" sz="1200" spc="-1" strike="noStrike">
                <a:solidFill>
                  <a:srgbClr val="000000"/>
                </a:solidFill>
                <a:latin typeface="Times New Roman"/>
              </a:rPr>
              <a:t>Counseling: An Introduction, </a:t>
            </a:r>
            <a:r>
              <a:rPr b="0" lang="es-ES" sz="1200" spc="-1" strike="noStrike">
                <a:solidFill>
                  <a:srgbClr val="000000"/>
                </a:solidFill>
                <a:latin typeface="Times New Roman"/>
              </a:rPr>
              <a:t>Dugald S. Arbuck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CL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clientes van en busca de un consejero por varias razones.  A algunos clientes se los ordena el juzgado. Se envía a encarcelados u otros ofensores, de modo que puedan recibir ayuda. Los jueces  envían a las partes involucradas en un divorcio potencial, para recibir consejos para su matrimonio. Otros, luego de examinar su situación, sienten que necesitan ayuda o que necesitan mejorar su estilo de vida. Y aún otros son enviados para pedir consejos en el área académica o vocacional. Otros clientes se ven empujados por una cris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os los clientes tienen expectativas de variados niveles. Algunos clientes esperan ayuda y cambios rápidos. Otros van a pedir consejo con el pensamiento de que nada podrá hacer una diferencia en su apariencia y conducta.  Van para satisfacer un requerimiento o para sofocar posibles sentimientos de culpabil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de los clientes más difíciles con los cuales trabajar es el cliente reluctante. Los clientes reluctantes son aquellos que no desean recibir consejos; pero se encuentran en una situación de necesidad. La resolución conciente de no cooperar, dificulta la obtención de cualquier resultado o logro. El consejero con poca experiencia, puede sentirse incapaz en presencia de resistencia. No siempre se debe considerar a la resistencia como negativa. De acuerdo con Dyer y Vriend, “La resistencia es un proceso inevitable en cada tratamiento efectivo, porque esa parte de la patología de la personalidad que tiene un interés por sobrevivir, y protesta activamente cada vez que la terapia se acerca a inducir un cambio exitoso.” (p. 94, 9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reluctancia puede manifestarse algunas veces a sí misma como hostilidad del cliente, ausentismo, no-cooperación, civilidad desgastada, y otras formas creativas. Algunos clientes son reluctantes porque están sospechosos. Otros porque no desean cambiar. Y aún otros tienen miedo de admitir cualquier posibilidad de defectos que puedan te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rategias para tratar con clientes reluctan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 la tentación de sentirse rechazada por un cliente que no coopera con el proceso de consejería. Es importante no permitir que se reflejen en la superficie los sentimientos personales. Presentamos a continuación algunas sugerencias de cómo tratar con la reluctancia por parte del cl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húse considerarse a usted misma como blanco de reluctancia. Esto afectará su acercamiento para aconsejar al cl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uestre confianza y no se muestre intimida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ignore los sentimientos del cliente. Trate de descubrir porqué está reluctante. </a:t>
            </a:r>
            <a:endParaRPr b="0" lang="en-US" sz="1200" spc="-1" strike="noStrike">
              <a:solidFill>
                <a:srgbClr val="000000"/>
              </a:solidFill>
              <a:latin typeface="Times New Roman"/>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ate de interpretar las razones para la reluctancia y utilícelas como una oportunidad para enseñarle al cliente una mayor auto comprens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uéstrele al cliente que la consejería le ayudará a manejar los sentimientos aunque éstos le resulten incómod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aciente exploración del comportamiento del cliente puede ayudar a reducir la reluctanc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carar directamente el trabajo elimina barreras. Pregúntele al cliente “¿Está listo para que hagamos algunas cosas juntos para ayudar a que su vida actual sea más feliz?”  Otra aproximación es “¿Podemos planificar que me cuente todo lo que lo está perturbando realm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que aceptar que se va a encontrar con muchos clientes reluctantes. La prueba de su fuerza estará en mantenerse calma y demostrar que usted no tomará la responsabilidad de hacer todo por sí sola. Usted está comprometida a ayudar, pero solamente si se lo permiten. Sobre todo, actúe en forma profesional todo moment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ERFIL DE UN CONSEJ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no se transforma en un buen consejero por ser tan solo una buena persona.  Hay algunas características que se espera que posean todos los consej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nga una identidad. </a:t>
            </a:r>
            <a:r>
              <a:rPr b="0" lang="es-ES" sz="1200" spc="-1" strike="noStrike">
                <a:solidFill>
                  <a:srgbClr val="000000"/>
                </a:solidFill>
                <a:latin typeface="Times New Roman"/>
              </a:rPr>
              <a:t>Un consejero debe saber quién es él o ella. Saber lo que usted espera de la vida y lo que cree. Manténgase firme en sus valores y principios cristianos. Una personalidad fluctuante no puede ayudar a otros efectivamente.</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recie el valor que Dios ha colocado sobre usted.   </a:t>
            </a:r>
            <a:r>
              <a:rPr b="0" lang="es-ES" sz="1200" spc="-1" strike="noStrike">
                <a:solidFill>
                  <a:srgbClr val="000000"/>
                </a:solidFill>
                <a:latin typeface="Times New Roman"/>
              </a:rPr>
              <a:t>Un consejero que reconoce que es “de mucho más valor que muchos pajarillos” es un incremento para la causa. Con su nombre grabado en la palma de la mano de Dios, ¿Cómo podría dejar de tener respeto y aprecio por sí mis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é abierto al cambio</a:t>
            </a:r>
            <a:r>
              <a:rPr b="0" lang="es-ES" sz="1200" spc="-1" strike="noStrike">
                <a:solidFill>
                  <a:srgbClr val="000000"/>
                </a:solidFill>
                <a:latin typeface="Times New Roman"/>
              </a:rPr>
              <a:t>. No esté satisfecho con su estado actual. Luche para aprender más y sea un investigador. Tome riesgos y descubra nuevos métodos. Existe un amplio mundo de oportunidades de aprendizaj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e su propio estilo de consejería</a:t>
            </a:r>
            <a:r>
              <a:rPr b="0" lang="es-ES" sz="1200" spc="-1" strike="noStrike">
                <a:solidFill>
                  <a:srgbClr val="000000"/>
                </a:solidFill>
                <a:latin typeface="Times New Roman"/>
              </a:rPr>
              <a:t>. Utilice sus fortalezas y habilidades para desarrollar su propio estilo de consejería. Estudie en profundidad el material apropiado. Lea y mire videos. Recuerde siempre; sea el mejor consejero que pue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abierto, sincero y honesto</a:t>
            </a:r>
            <a:r>
              <a:rPr b="0" lang="es-ES" sz="1200" spc="-1" strike="noStrike">
                <a:solidFill>
                  <a:srgbClr val="000000"/>
                </a:solidFill>
                <a:latin typeface="Times New Roman"/>
              </a:rPr>
              <a:t>.  La gente reconoce y odia la falta de sinceridad. Permita que coincidan sus palabras y acciones. Obre con integr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e su sentido de humor</a:t>
            </a:r>
            <a:r>
              <a:rPr b="0" lang="es-ES" sz="1200" spc="-1" strike="noStrike">
                <a:solidFill>
                  <a:srgbClr val="000000"/>
                </a:solidFill>
                <a:latin typeface="Times New Roman"/>
              </a:rPr>
              <a:t>.  Ríase especialmente de usted misma. La ayudará a colocar las cosas en su verdadera perspect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sensible a la cultura de la gente</a:t>
            </a:r>
            <a:r>
              <a:rPr b="0" lang="es-ES" sz="1200" spc="-1" strike="noStrike">
                <a:solidFill>
                  <a:srgbClr val="000000"/>
                </a:solidFill>
                <a:latin typeface="Times New Roman"/>
              </a:rPr>
              <a:t>.  Note que la gente es diferente una de la otra y que eso es correcto. Respete y tenga un alto nivel de tolerancia por la gente que es diferent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optimista</a:t>
            </a:r>
            <a:r>
              <a:rPr b="0" lang="es-ES" sz="1200" spc="-1" strike="noStrike">
                <a:solidFill>
                  <a:srgbClr val="000000"/>
                </a:solidFill>
                <a:latin typeface="Times New Roman"/>
              </a:rPr>
              <a:t>.  A nadie le gusta estar cerca de un pesimista. Somos sostenidos por la esperanza que creemos. Con Cristo en nuestros corazones, la esperanza está siempre all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oce de la vida</a:t>
            </a:r>
            <a:r>
              <a:rPr b="0" lang="es-ES" sz="1200" spc="-1" strike="noStrike">
                <a:solidFill>
                  <a:srgbClr val="000000"/>
                </a:solidFill>
                <a:latin typeface="Times New Roman"/>
              </a:rPr>
              <a:t>.  Aprenda a dejar los problemas atrás y a gozar de su propia vida. No acarree perpetuamente los cuidados y problemas de los clientes. Necesita la experiencia de sus propios períodos de renovación. Esto la hará más efec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uestre un espíritu desinteresado</a:t>
            </a:r>
            <a:r>
              <a:rPr b="0" lang="es-ES" sz="1200" spc="-1" strike="noStrike">
                <a:solidFill>
                  <a:srgbClr val="000000"/>
                </a:solidFill>
                <a:latin typeface="Times New Roman"/>
              </a:rPr>
              <a:t>.  Muestre un sincero interés en otros. Debe estar basado en respeto, interés, confianza, y una valoración de los demá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nga una reputación de buena confidencia</a:t>
            </a:r>
            <a:r>
              <a:rPr b="0" lang="es-ES" sz="1200" spc="-1" strike="noStrike">
                <a:solidFill>
                  <a:srgbClr val="000000"/>
                </a:solidFill>
                <a:latin typeface="Times New Roman"/>
              </a:rPr>
              <a:t>.  Un consejero debe poseer la práctica de mantener los labios fuertemente cerrados. Nadie desea un consejero que desparrame información. La cualidad número 1 de un consejero es la confidencia.  A los clientes les gusta la seguridad de que sus asuntos no serán discutidos con ot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sensible a las relaciones humanas</a:t>
            </a:r>
            <a:r>
              <a:rPr b="0" lang="es-ES" sz="1200" spc="-1" strike="noStrike">
                <a:solidFill>
                  <a:srgbClr val="000000"/>
                </a:solidFill>
                <a:latin typeface="Times New Roman"/>
              </a:rPr>
              <a:t>.  Trate de comprender los sentimientos  de la g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sea una actitud objetiva</a:t>
            </a:r>
            <a:r>
              <a:rPr b="0" lang="es-ES" sz="1200" spc="-1" strike="noStrike">
                <a:solidFill>
                  <a:srgbClr val="000000"/>
                </a:solidFill>
                <a:latin typeface="Times New Roman"/>
              </a:rPr>
              <a:t>.  Aprenda a poder separar las emociones. Tampoco se permita a usted misma mostrar demasiada simpat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demuestre pasión por reformar a todo el mundo</a:t>
            </a:r>
            <a:r>
              <a:rPr b="0" lang="es-ES" sz="1200" spc="-1" strike="noStrike">
                <a:solidFill>
                  <a:srgbClr val="000000"/>
                </a:solidFill>
                <a:latin typeface="Times New Roman"/>
              </a:rPr>
              <a:t>.  Algunas personas están en una campaña por cambiar el mundo.  Esta actitud podría espantar a la gent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natural</a:t>
            </a:r>
            <a:r>
              <a:rPr b="0" lang="es-ES" sz="1200" spc="-1" strike="noStrike">
                <a:solidFill>
                  <a:srgbClr val="000000"/>
                </a:solidFill>
                <a:latin typeface="Times New Roman"/>
              </a:rPr>
              <a:t>. La gente es atraída por aquellos que son sencillos y con los cuales es fácil asociarse.  A los clientes les gusta sentirse cóm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uestre confianza en la gente y en su potencial para crecer</a:t>
            </a:r>
            <a:r>
              <a:rPr b="0" lang="es-ES" sz="1200" spc="-1" strike="noStrike">
                <a:solidFill>
                  <a:srgbClr val="000000"/>
                </a:solidFill>
                <a:latin typeface="Times New Roman"/>
              </a:rPr>
              <a:t>. A la gente le gusta que se le diga: “Usted lo puede log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renda a escuchar</a:t>
            </a:r>
            <a:r>
              <a:rPr b="0" lang="es-ES" sz="1200" spc="-1" strike="noStrike">
                <a:solidFill>
                  <a:srgbClr val="000000"/>
                </a:solidFill>
                <a:latin typeface="Times New Roman"/>
              </a:rPr>
              <a:t>. No se puede aconsejar efectivamente si no se escucha. Escuche lo que se dice y también las implicancias de lo que se dice. No ponga las palabras en la boca del cliente ni trate de anticiparse. Escuche con atención, sin jugar con papeles ni otro material que distraiga. No tenga miedo del silencio. Algunas veces el cliente hablará entrecortadamente y hará largas pausas. Sea paciente y esp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serve límites</a:t>
            </a:r>
            <a:r>
              <a:rPr b="0" lang="es-ES" sz="1200" spc="-1" strike="noStrike">
                <a:solidFill>
                  <a:srgbClr val="000000"/>
                </a:solidFill>
                <a:latin typeface="Times New Roman"/>
              </a:rPr>
              <a:t>. Mantenga una distancia profesional. Una vez que entre en una relación de consejería, su comportamiento debe ser estrictamente profe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antenga a Dios como su guía</a:t>
            </a:r>
            <a:r>
              <a:rPr b="0" lang="es-ES" sz="1200" spc="-1" strike="noStrike">
                <a:solidFill>
                  <a:srgbClr val="000000"/>
                </a:solidFill>
                <a:latin typeface="Times New Roman"/>
              </a:rPr>
              <a:t>. Reclame las promesas que Dios ha dado. El ha prometido darle sabiduría. Tan solo pídase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ÉCNICAS SIMPLES DE CONSEJE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r. Gary Collins, un competente psicólogo consejero, enfatiza que a menudo uno se ve enfrentado con situaciones de consejería, experimenta algunas veces “profundos sentimientos de frustración, inseguridad, y aún una sensación de inutilidad personal… cuando se le pide ayuda.”  Estos sentimientos son naturales. Existen diferentes tipos de consejería y el conocimiento de algunas técnicas de consejería puede ser de gran ayuda para el consejero l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ipos de consejería (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chemos una mirada a algunos tipos comunes de consejería. Con la excepción de la consejería profunda </a:t>
            </a:r>
            <a:r>
              <a:rPr b="1" lang="es-ES" sz="1200" spc="-1" strike="noStrike">
                <a:solidFill>
                  <a:srgbClr val="000000"/>
                </a:solidFill>
                <a:latin typeface="Times New Roman"/>
              </a:rPr>
              <a:t>que debiera ser utilizada solamente por profesionales entrenados, </a:t>
            </a:r>
            <a:r>
              <a:rPr b="0" lang="es-ES" sz="1200" spc="-1" strike="noStrike">
                <a:solidFill>
                  <a:srgbClr val="000000"/>
                </a:solidFill>
                <a:latin typeface="Times New Roman"/>
              </a:rPr>
              <a:t>el consejero lego, con algún entrenamiento puede ayudar en las siguientes á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de apoyo</a:t>
            </a:r>
            <a:r>
              <a:rPr b="0" lang="es-ES" sz="1200" spc="-1" strike="noStrike">
                <a:solidFill>
                  <a:srgbClr val="000000"/>
                </a:solidFill>
                <a:latin typeface="Times New Roman"/>
              </a:rPr>
              <a:t> se utiliza más a menudo con gente que tiene dificultades de enfrentar solas sus problemas.  A intervalos frecuentes, estas personas pueden necesitar una guía constante.  En consejería de apoyo, la meta es no crear una dependencia crónica sobre el consejero, sino dar un apoyo temporario y ayuda a la persona para ganar fuerzas y obtener los recursos para poder hacer frente a las situaci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de confrontación</a:t>
            </a:r>
            <a:r>
              <a:rPr b="0" i="1" lang="es-ES" sz="1200" spc="-1" strike="noStrike">
                <a:solidFill>
                  <a:srgbClr val="000000"/>
                </a:solidFill>
                <a:latin typeface="Times New Roman"/>
              </a:rPr>
              <a:t> busca de señalar al cliente sus acciones. </a:t>
            </a:r>
            <a:r>
              <a:rPr b="0" lang="es-ES" sz="1200" spc="-1" strike="noStrike">
                <a:solidFill>
                  <a:srgbClr val="000000"/>
                </a:solidFill>
                <a:latin typeface="Times New Roman"/>
              </a:rPr>
              <a:t> El consejero guía al aconsejado a ver los actos erróneos cometidos y a darse cuenta del dolor que pudo causar a otros. La idea es que esconder acciones inmorales solo crea culpa, frustración y ansiedad. Como cristiano, el consejero debe ayudar al cliente a confesar, olvidar su pecado, y aceptar el perdón de un Salvador am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educativa</a:t>
            </a:r>
            <a:r>
              <a:rPr b="0" i="1" lang="es-ES" sz="1200" spc="-1" strike="noStrike">
                <a:solidFill>
                  <a:srgbClr val="000000"/>
                </a:solidFill>
                <a:latin typeface="Times New Roman"/>
              </a:rPr>
              <a:t> </a:t>
            </a:r>
            <a:r>
              <a:rPr b="0" lang="es-ES" sz="1200" spc="-1" strike="noStrike">
                <a:solidFill>
                  <a:srgbClr val="000000"/>
                </a:solidFill>
                <a:latin typeface="Times New Roman"/>
              </a:rPr>
              <a:t>se enfoca en enseñar al cliente. Puede ser que exista un comportamiento indeseado que tenga que ser desaprendido. El consejero en este caso es un maestro. La gente puede venir al consejero con preguntas sobre asuntos sociales, religiosos o hasta problemas de carrera. A menudo algunos clientes pueden necesitar ayuda en hacer ciertas decisiones críti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preventiva </a:t>
            </a:r>
            <a:r>
              <a:rPr b="0" lang="es-ES" sz="1200" spc="-1" strike="noStrike">
                <a:solidFill>
                  <a:srgbClr val="000000"/>
                </a:solidFill>
                <a:latin typeface="Times New Roman"/>
              </a:rPr>
              <a:t>se utiliza para detener problemas antes de que comiencen o para prevenir que las cosas empeoren. Áreas como “Cómo mantenerse saludable,” “Cómo prepararse para la jubilación,” o sesiones en consejería prematrimonial, son ejemplos de consejería preven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espiritual </a:t>
            </a:r>
            <a:r>
              <a:rPr b="0" lang="es-ES" sz="1200" spc="-1" strike="noStrike">
                <a:solidFill>
                  <a:srgbClr val="000000"/>
                </a:solidFill>
                <a:latin typeface="Times New Roman"/>
              </a:rPr>
              <a:t> Es muy necesaria, y los cristianos a menudo aprovechan la oportunidad para llevar a las personas a Cristo.  Algunas veces se encontrará con personas que buscan respuestas espirituales, gente que esta buscando un propósito para la vida. Esta es la oportunidad que puede aprovechar el consejero cristiano para guiarlos a la Biblia y para orar con ellos. Algunas veces, a través de la consejería espiritual, el consejero puede descubrir que el cliente también tiene problemas psicológicos que necesita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profunda</a:t>
            </a:r>
            <a:r>
              <a:rPr b="0" i="1" lang="es-ES" sz="1200" spc="-1" strike="noStrike">
                <a:solidFill>
                  <a:srgbClr val="000000"/>
                </a:solidFill>
                <a:latin typeface="Times New Roman"/>
              </a:rPr>
              <a:t> se establece una relación a largo plazo con el cliente, en la cual se van descubriendo y  resolviendo en detalle problemas profundos que afectan al aconsejado. El proceso es largo y demanda las habilidades de un consejero profesional. Esta clase de técnica no es para una persona lega, o sin preparación especializada. </a:t>
            </a:r>
            <a:r>
              <a:rPr b="1" lang="es-ES" sz="1200" spc="-1" strike="noStrike">
                <a:solidFill>
                  <a:srgbClr val="000000"/>
                </a:solidFill>
                <a:latin typeface="Times New Roman"/>
              </a:rPr>
              <a:t>No juegue con consejería profunda. </a:t>
            </a:r>
            <a:r>
              <a:rPr b="0" lang="es-ES" sz="1200" spc="-1" strike="noStrike">
                <a:solidFill>
                  <a:srgbClr val="000000"/>
                </a:solidFill>
                <a:latin typeface="Times New Roman"/>
              </a:rPr>
              <a:t>¡Si no es un terapeuta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informal</a:t>
            </a:r>
            <a:r>
              <a:rPr b="0" i="1" lang="es-ES" sz="1200" spc="-1" strike="noStrike">
                <a:solidFill>
                  <a:srgbClr val="000000"/>
                </a:solidFill>
                <a:latin typeface="Times New Roman"/>
              </a:rPr>
              <a:t> </a:t>
            </a:r>
            <a:r>
              <a:rPr b="0" lang="es-ES" sz="1200" spc="-1" strike="noStrike">
                <a:solidFill>
                  <a:srgbClr val="000000"/>
                </a:solidFill>
                <a:latin typeface="Times New Roman"/>
              </a:rPr>
              <a:t> Se lleva a cabo en un ambiente natural. Quizás en una visita al hospital, o durante una visita informal a la casa, el consejero puede verse envuelto en una conversación en la cual le pidan su ayuda. O podría encontrarse en la calle con un amigo y preguntare, “¿Qué tal, cómo te va?” Entonces su amigo o amiga le cuenta un problema por el cual está pasando. Su tiempo e interés demostrado pueden ser de ayuda en ese momento. La consejería informal puede parecer no tener importancia, pero ha ayudado a mucho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801800" y="695160"/>
            <a:ext cx="2421000" cy="1816200"/>
          </a:xfrm>
          <a:prstGeom prst="rect">
            <a:avLst/>
          </a:prstGeom>
          <a:ln w="0">
            <a:noFill/>
          </a:ln>
        </p:spPr>
      </p:sp>
      <p:sp>
        <p:nvSpPr>
          <p:cNvPr id="190" name="PlaceHolder 2"/>
          <p:cNvSpPr>
            <a:spLocks noGrp="1"/>
          </p:cNvSpPr>
          <p:nvPr>
            <p:ph type="body"/>
          </p:nvPr>
        </p:nvSpPr>
        <p:spPr>
          <a:xfrm>
            <a:off x="700200" y="2511000"/>
            <a:ext cx="5595840" cy="73040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an de acción de consejerí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asgo básico de un proceso de consejería es la relación que existe entre el consejero y el cliente. La relación se fomenta por la confianza del cliente en la integridad, honestidad, competencia, y comportamiento general del consejero. A continuación presentamos algunas consideraciones para ayudar al consejero en su acerca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finir el problema</a:t>
            </a:r>
            <a:r>
              <a:rPr b="0" lang="es-ES" sz="1200" spc="-1" strike="noStrike">
                <a:solidFill>
                  <a:srgbClr val="000000"/>
                </a:solidFill>
                <a:latin typeface="Times New Roman"/>
              </a:rPr>
              <a:t>.  Con esto, el consejero ayuda al cliente a decir qué es lo que realmente lo está molestando a él o a ella.  Anime al cliente a llegar a una comprensión de lo que le sucede en su interior. Esto lleva a menudo a que el cliente esté abierto a trabajar y cooperar para alcanzar algunas  metas.  Hay algunas habilidades que el consejero necesita practicar antes de comenzar a trabajar con un cliente. Se las llama habilidades de atención, que ayudan al cliente a ver que el consejero está interesado en su probl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consejero debiera mirar directamente al cliente; inclinarse hacia delante para mostrar su interés; mantener un contacto visual y una atmósfera cómoda, tranquila. Otras habilidades necesarias son: respeto por el cliente, ser genuinos, mostrar simpatía y ser concret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respeto por el valor del cliente como persona es importante. </a:t>
            </a:r>
            <a:r>
              <a:rPr b="0" lang="es-ES" sz="1200" spc="-1" strike="noStrike">
                <a:solidFill>
                  <a:srgbClr val="000000"/>
                </a:solidFill>
                <a:latin typeface="Times New Roman"/>
              </a:rPr>
              <a:t> Comunicamos nuestros sentimientos tanto en forma verbal como no verbal. Debemos estar seguras de mostrar respeto por el cliente, no importa cuál sea su situa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l ser genuinos con nuestro trato, estamos demostrando que coincide tanto  lo que decimos como lo que hacemos. Si decimos que estamos interesados en el cliente y actuamos como que no nos importa, esto no es genuino, y el cliente lo notará.</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Nivel primario de empatía; es d</a:t>
            </a:r>
            <a:r>
              <a:rPr b="0" lang="es-ES" sz="1200" spc="-1" strike="noStrike">
                <a:solidFill>
                  <a:srgbClr val="000000"/>
                </a:solidFill>
                <a:latin typeface="Times New Roman"/>
              </a:rPr>
              <a:t>emostrar una comprensión de los sentimientos del cliente: las heridas, enojo, frustración y vulnerabil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Ser concretos; es el arte de ayudar al cliente en un problema. Animarlo a ser específico más bien que hablar de generalidades. </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a:t>
            </a:r>
            <a:r>
              <a:rPr b="0" lang="es-ES" sz="1200" spc="-1" strike="noStrike">
                <a:solidFill>
                  <a:srgbClr val="000000"/>
                </a:solidFill>
                <a:latin typeface="Times New Roman"/>
              </a:rPr>
              <a:t>	</a:t>
            </a:r>
            <a:r>
              <a:rPr b="1" lang="es-ES" sz="1200" spc="-1" strike="noStrike">
                <a:solidFill>
                  <a:srgbClr val="000000"/>
                </a:solidFill>
                <a:latin typeface="Times New Roman"/>
              </a:rPr>
              <a:t>Establecer metas.  </a:t>
            </a:r>
            <a:r>
              <a:rPr b="0" lang="es-ES" sz="1200" spc="-1" strike="noStrike">
                <a:solidFill>
                  <a:srgbClr val="000000"/>
                </a:solidFill>
                <a:latin typeface="Times New Roman"/>
              </a:rPr>
              <a:t>Ayudar al cliente a establecer metas para resolver un</a:t>
            </a:r>
            <a:r>
              <a:rPr b="1" lang="es-ES" sz="1200" spc="-1" strike="noStrike">
                <a:solidFill>
                  <a:srgbClr val="000000"/>
                </a:solidFill>
                <a:latin typeface="Times New Roman"/>
              </a:rPr>
              <a:t> </a:t>
            </a:r>
            <a:r>
              <a:rPr b="0" lang="es-ES" sz="1200" spc="-1" strike="noStrike">
                <a:solidFill>
                  <a:srgbClr val="000000"/>
                </a:solidFill>
                <a:latin typeface="Times New Roman"/>
              </a:rPr>
              <a:t>problema, o por lo menos parte del mismo. No le de usted las metas. Al definir el problema con él o ella, podrá avanzar para guiarlos a establecer metas. Examinemos algunas de las habilidades que se necesitan para este pas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Una empatía más avanzada ayudará al cliente a revelar más profundamente sus sentimient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uto-apertura en la cual le ayuda al cliente a verse como un ser humano con problemas y luchas (</a:t>
            </a:r>
            <a:r>
              <a:rPr b="1" i="1" lang="es-ES" sz="1200" spc="-1" strike="noStrike">
                <a:solidFill>
                  <a:srgbClr val="000000"/>
                </a:solidFill>
                <a:latin typeface="Times New Roman"/>
              </a:rPr>
              <a:t>¡CUIDADO! </a:t>
            </a:r>
            <a:r>
              <a:rPr b="0" i="1" lang="es-ES" sz="1200" spc="-1" strike="noStrike">
                <a:solidFill>
                  <a:srgbClr val="000000"/>
                </a:solidFill>
                <a:latin typeface="Times New Roman"/>
              </a:rPr>
              <a:t>no revele asuntos profundos personales y confidenciales acerca de usted misma). Sea cuidadosa para no distraerse de los problemas del cli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Confrontación: es otra habilidad necesaria. Esta es la habilidad que permite desafiar actitudes, conductas, y creencias del cli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Centrarse en lo inmediato: es la habilidad de enfocarse en el aquí y el ahora.  Resista la insistencia del paciente de fijarse en el pasado. Aunque el cliente pueda necesitar referirse a las heridas y sentimientos relacionados con el pasado, ayúdelo a regresar al aquí y al ahora. El objetivo del consejero es ayudar al cliente a establecer metas razonables con el propósito de resolver el probl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a:t>
            </a:r>
            <a:r>
              <a:rPr b="0" lang="es-ES" sz="1200" spc="-1" strike="noStrike">
                <a:solidFill>
                  <a:srgbClr val="000000"/>
                </a:solidFill>
                <a:latin typeface="Times New Roman"/>
              </a:rPr>
              <a:t>	</a:t>
            </a:r>
            <a:r>
              <a:rPr b="1" lang="es-ES" sz="1200" spc="-1" strike="noStrike">
                <a:solidFill>
                  <a:srgbClr val="000000"/>
                </a:solidFill>
                <a:latin typeface="Times New Roman"/>
              </a:rPr>
              <a:t>Cambios de conducta.</a:t>
            </a:r>
            <a:r>
              <a:rPr b="0" lang="es-ES" sz="1200" spc="-1" strike="noStrike">
                <a:solidFill>
                  <a:srgbClr val="000000"/>
                </a:solidFill>
                <a:latin typeface="Times New Roman"/>
              </a:rPr>
              <a:t> Ahora es el momento para la acción. Aquí nos centramos en las acciones que darán como resultado cambios de conducta. Muéstrele al cliente que sus problemas están relacionados con conductas. Se deben desaprender algunas cosas, y se deben aprender otras. Note que las conductas están relacionadas con situaciones de la vida. A las conductas también se las llama </a:t>
            </a:r>
            <a:r>
              <a:rPr b="0" i="1" lang="es-ES" sz="1200" spc="-1" strike="noStrike">
                <a:solidFill>
                  <a:srgbClr val="000000"/>
                </a:solidFill>
                <a:latin typeface="Times New Roman"/>
              </a:rPr>
              <a:t>hábitos.  </a:t>
            </a:r>
            <a:r>
              <a:rPr b="0" lang="es-ES" sz="1200" spc="-1" strike="noStrike">
                <a:solidFill>
                  <a:srgbClr val="000000"/>
                </a:solidFill>
                <a:latin typeface="Times New Roman"/>
              </a:rPr>
              <a:t>Los hábitos que son aprendidos, deben ser desaprendidos si son indeseables. El cliente tendrá que trabajar ahora en sus metas para cambiar conductas. A esto se lo llama </a:t>
            </a:r>
            <a:r>
              <a:rPr b="0" i="1" lang="es-ES" sz="1200" spc="-1" strike="noStrike">
                <a:solidFill>
                  <a:srgbClr val="000000"/>
                </a:solidFill>
                <a:latin typeface="Times New Roman"/>
              </a:rPr>
              <a:t>modificación de conductas. </a:t>
            </a:r>
            <a:r>
              <a:rPr b="0" lang="es-ES" sz="1200" spc="-1" strike="noStrike">
                <a:solidFill>
                  <a:srgbClr val="000000"/>
                </a:solidFill>
                <a:latin typeface="Times New Roman"/>
              </a:rPr>
              <a:t>Ahora se planifica un plan de acción y se trabaja sobre esto. Para diseñar y trabajar en un plan de acción se debe tener en cuenta lo sigu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Identifique la circunstancia en la cual ocurre el hábito indeseable. </a:t>
            </a:r>
            <a:r>
              <a:rPr b="0" lang="es-ES" sz="1200" spc="-1" strike="noStrike">
                <a:solidFill>
                  <a:srgbClr val="000000"/>
                </a:solidFill>
                <a:latin typeface="Times New Roman"/>
              </a:rPr>
              <a:t>Estas circunstancias se pueden controlar evitando o eliminando los factores que refuerzan la conduct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Sustituir con conductas deseables </a:t>
            </a:r>
            <a:r>
              <a:rPr b="0" lang="es-ES" sz="1200" spc="-1" strike="noStrike">
                <a:solidFill>
                  <a:srgbClr val="000000"/>
                </a:solidFill>
                <a:latin typeface="Times New Roman"/>
              </a:rPr>
              <a:t>en lugar de las indeseabl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7920" y="695160"/>
            <a:ext cx="4641840" cy="3481560"/>
          </a:xfrm>
          <a:prstGeom prst="rect">
            <a:avLst/>
          </a:prstGeom>
          <a:ln w="0">
            <a:noFill/>
          </a:ln>
        </p:spPr>
      </p:sp>
      <p:sp>
        <p:nvSpPr>
          <p:cNvPr id="15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mbiente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mbiente de consejería es de extrema importancia. No es necesario tener una oficina amueblada grande y cara. </a:t>
            </a:r>
            <a:r>
              <a:rPr b="1" lang="es-ES" sz="1200" spc="-1" strike="noStrike">
                <a:solidFill>
                  <a:srgbClr val="000000"/>
                </a:solidFill>
                <a:latin typeface="Times New Roman"/>
              </a:rPr>
              <a:t>Lo que es de extrema importancia es la privacidad.</a:t>
            </a:r>
            <a:r>
              <a:rPr b="0" lang="es-ES" sz="1200" spc="-1" strike="noStrike">
                <a:solidFill>
                  <a:srgbClr val="000000"/>
                </a:solidFill>
                <a:latin typeface="Times New Roman"/>
              </a:rPr>
              <a:t> Las llamadas telefónicas constantes o golpes a la puerta pueden distraer y causar dificultades para establecer concordancia y afinidad. Uno puede aconsejar en un hogar, en un parque o en la iglesia, o en cualquier habitación vacía. Aunque es muy importante la privacidad, no es sabio escoger una ubicación que quede muy a tras mano, donde no haya un ser humano a la vista por kilómetros alrededor. </a:t>
            </a:r>
            <a:r>
              <a:rPr b="1" lang="es-ES" sz="1200" spc="-1" strike="noStrike">
                <a:solidFill>
                  <a:srgbClr val="000000"/>
                </a:solidFill>
                <a:latin typeface="Times New Roman"/>
              </a:rPr>
              <a:t>Se necesita un sentimiento de seguridad emocional y fís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unque es aceptable la simplicidad en el moblaje, es necesaria cierta comodidad. </a:t>
            </a:r>
            <a:r>
              <a:rPr b="0" lang="es-ES" sz="1200" spc="-1" strike="noStrike">
                <a:solidFill>
                  <a:srgbClr val="000000"/>
                </a:solidFill>
                <a:latin typeface="Times New Roman"/>
              </a:rPr>
              <a:t> Si la habitación es cómoda y agradable, tanto el consejero como el aconsejado se sentirán más relajados y las sesiones serán más productiv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rregle las sillas en la habitación para que el cliente pueda escoger dónde sentarse. </a:t>
            </a:r>
            <a:r>
              <a:rPr b="0" lang="es-ES" sz="1200" spc="-1" strike="noStrike">
                <a:solidFill>
                  <a:srgbClr val="000000"/>
                </a:solidFill>
                <a:latin typeface="Times New Roman"/>
              </a:rPr>
              <a:t>Evite de colocar las sillas en una posición donde el aconsejado no pueda verla claramente. Usted también necesita verlo o verla bi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rate de presentar una apariencia calma, placentera y preparada. </a:t>
            </a:r>
            <a:r>
              <a:rPr b="0" lang="es-ES" sz="1200" spc="-1" strike="noStrike">
                <a:solidFill>
                  <a:srgbClr val="000000"/>
                </a:solidFill>
                <a:latin typeface="Times New Roman"/>
              </a:rPr>
              <a:t>Esto ayudará a que su cliente se sienta cómodo.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TICA EN CONSEJERÍA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veces con el afán de ayudar, no se consideran los aspectos éticos de consejería.  Es de la mayor importancia que un consejero preste estricta atención a la ética en consejerí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nudo la persona lega no está alerta a la responsabilidad ética del consejero. Algunas veces ignorar algunas de las “reglas de juego” puede meterlo en problemas. Cuando hablamos de ética nos referimos a la buena y mala práctica de consejería.  El descuido de la ética puede traer consecuencias muy serias. Examinaremos a continuación algunos asuntos éticos que debe conocer todo el que se compromete en cualquier tipo de consejería: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rechos de los clientes (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consejeros que demuestran respeto por los derechos de sus clientes construyen una buena relación con el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rechos de lo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derecho de dar consentimiento para la información, </a:t>
            </a:r>
            <a:r>
              <a:rPr b="0" lang="es-ES" sz="1200" spc="-1" strike="noStrike">
                <a:solidFill>
                  <a:srgbClr val="000000"/>
                </a:solidFill>
                <a:latin typeface="Times New Roman"/>
              </a:rPr>
              <a:t>demanda que se le de al cliente suficiente información para hacer elecciones concientes al establecer y continuar la relación cliente/terapeuta.  Un ejemplo de una  “forma de consentimiento conciente” podría ser obtenerla de cualquier agencia profesional de consejería. Algunos asuntos que pueden afectar la decisión del cliente para iniciar sesiones de consejería podrían ser: metas generales de consejería, responsabilidades del consejero hacia el cliente, limitaciones y excepciones de confidencialidad, las calificaciones y preparación del terapeuta, y los costos involucrados, la duración aproximada del tratamiento y los servicios que se ofrecer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Derechos de menores.  </a:t>
            </a:r>
            <a:r>
              <a:rPr b="0" lang="es-ES" sz="1200" spc="-1" strike="noStrike">
                <a:solidFill>
                  <a:srgbClr val="000000"/>
                </a:solidFill>
                <a:latin typeface="Times New Roman"/>
              </a:rPr>
              <a:t>Un asunto importante son los derechos de los menores a recibir tratamiento. ¿Puede un menor buscar a un consejero para recibir ayuda sin el consentimiento de los padres? ¿Cuáles son los límites de confidencialidad? Existen diferentes reglamentaciones de acuerdo al lugar, provincia, país.  En la mayoría de los lugares, los menores necesitan contar con el consentimiento de los padres antes recibir sesiones de consejería, con unas pocas excepciones como ser; abuso de sustancias, abuso de niños, y otros asuntos crí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derecho a un referente.  </a:t>
            </a:r>
            <a:r>
              <a:rPr b="0" lang="es-ES" sz="1200" spc="-1" strike="noStrike">
                <a:solidFill>
                  <a:srgbClr val="000000"/>
                </a:solidFill>
                <a:latin typeface="Times New Roman"/>
              </a:rPr>
              <a:t>Cuando un consejero se siente inhabilitado para manejar un caso, o cree que el tipo o duración del tratamiento con que cuenta es demasiado limitado para lo que el cliente debiera recibir, es el momento de delegarlo a otro referente. La AACD (Asociación Americana de Desarrollo de Consejería) da la siguiente recomendación: “Si el consejero determina una inhabilidad para poder dar asistencia profesional al cliente, el consejero debe: ya sea evitar de iniciar la relación de consejería o concluirla inmediatamente al darse cuenta de que no cuenta con suficiente habilidad como para poder ayudarlo en su necesidad.” No de la impresión de que está tratando de sacarse de encima al cliente. Si evaluara con anticipación, tendría que poder recomendarlo a un terapeuta que esté calificado para cuidar de su cliente. Obtenga información acerca de un terapeuta con el que pueda sentir confianza.  Alguien que ayudará a su cliente a sentirse seguro acerca del cambio en la relación de conseje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Deber de proteger y advertir.  </a:t>
            </a:r>
            <a:r>
              <a:rPr b="0" lang="es-ES" sz="1200" spc="-1" strike="noStrike">
                <a:solidFill>
                  <a:srgbClr val="000000"/>
                </a:solidFill>
                <a:latin typeface="Times New Roman"/>
              </a:rPr>
              <a:t>Aquí se presenta una doble responsabilidad para todos los consejeros. La  primera es de proteger a otras personas de clientes peligrosos. El segundo deber es el de proteger a los clientes de sí mismos. Estas responsabilidades generalmente acompañan la atención de la práctica con pacientes de salud mental. Se espera que se advierta al público de clientes potencialmente peligrosos, y que se recluya a individuos peligrosos.  Dar un alta prematura también es ilegal. Generalmente, los consejeros deben utilizar su juicio profesional concienzudo y buscar consejo cuando no están seguros acerca de una situación particular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LACIÓN SOCIAL Y PROFESIONAL CON LOS CL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tema muy delicado es cómo se combinan la relación social y personal con la terapéutica. ¿Cómo puede un consejero equilibrar una amistad con una relación terapéutica? Las amistades pueden ser terapéuticas, pero es difíc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r principalmente ocupados con una relación de consejería y mantener una amistad personal fuera de las sesiones. A esta relación se la denomina “relación dual.” Las relaciones duales presentan algunos problemas sutiles. Las personas que consultan a amigos o familiares en general son demasiado cercanas a ellos como para poder ser objetiv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tema muy delicado es cómo se mezclan las relaciones personales y so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cómo sus propias necesidades están conectadas con los problemas de su familia o amigos. Otro problema potencial es que como los consejeros son muy poderosos, es fácil que se de lugar a la explotación cuando las relaciones son más que profesionales. La AACD declara: “Los psicólogos deben hacer todo esfuerzo posible para evitar relaciones duales que puedan impedir el uso del buen juicio profesional o incrementar el riesgo de explotación.”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TOQUE FÍSICO COMO PARTE DE LA RELACIÓN DE CONSEJE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terapeutas están preocupados acerca del lugar del toque físico en las relaciones terapéuticas.  ¿Debiera un consejero tocar al cliente o no? Algunos expertos sienten que una relación con un toque no erótico puede ser beneficiosa para el cliente. Presentamos a continuación algunos lineamientos sugeridos para un toque físico apropiado, no erót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En el caso de aconsejar clientes social y emocionalmente inmaduros, (como ser pacientes con una historia de privación de cuidado ma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Cuando se aconseja a personas que se encuentran enfrentando una crisis, como ser de duelo o trau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Cuando se ofrece un apoyo emocional en forma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Cuando se saluda al comienzo o al final de una se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acto sexual con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gran problema ético. Sin embargo, las reglas son claras.  Todos los códigos profesionales tienen declaraciones específicas denunciando al contacto sexual con pacientes como no ético, en muchos lugares se considera ilegal. Una conducta sexual desubicada es una de las mayores causas de juicios por mala praxi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CON PACIENTES SUIC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un desafío tratar con paciente suicidas. Se aconseja a los consejeros legos a que los deriven a terapeutas profesionales. Sin embargo, existen pasos que cualquier consejero puede tomar cuando trata con una persona suicida.  La confidencialidad aquí es muy limitada. Uno debiera tomar una amenaza de suicidio con mucha seriedad, y ver que la vida del cliente corre alto riesgo. Todos debieran conocer por lo menos ciertas señales de suici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endo que se puede tomar por responsable al consejero que haya fallado en tomar medidas preventivas, es bueno contar con algunos cursos posibles de acción en el caso de que un cliente amenace con suicida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 posible póngase de acuerdo con el cliente para llamar un servicio de emergencia en un caso de cri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Los pacientes suicidas necesitan que se los derive a un terapeuta profesional y a un psiquiatra.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IDENCIALIDAD </a:t>
            </a:r>
            <a:endParaRPr b="0" lang="en-US" sz="1200" spc="-1" strike="noStrike">
              <a:solidFill>
                <a:srgbClr val="000000"/>
              </a:solidFill>
              <a:latin typeface="Times New Roman"/>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confidencialidad es un tema tanto ético como legal. El consejero debiera hacerle saber al cliente su compromiso de confidencialidad en la relación.  Este compromiso se debe romper cuando es claro que el cliente puede hacerse daño a sí mismo o a otros. El consejero también está obligado legalmente a quebrantar la confidencialidad cuando se presentan casos de abuso de niños, abuso de ancianos, y de gente peligrosa para otros. Algunas veces, la información recogida en una sesión puede necesitar que se la discuta con otros propósitos profesionales solamente y con personas que están claramente relacionadas con el caso. Infórmele esto al cliente. Enumeramos a continuación algunas circunstancias que permiten el paso de información: </a:t>
            </a:r>
            <a:r>
              <a:rPr b="0" lang="en-US" sz="800" spc="-1" strike="noStrike">
                <a:solidFill>
                  <a:srgbClr val="000000"/>
                </a:solidFill>
                <a:latin typeface="Times New Roman"/>
              </a:rPr>
              <a:t> (ver PowerPoin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se puede enfatizar de más la importancia de la confidencialidad. Este es un pilar en la relación de consejería.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CLUSIÓN (RP-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consejería cristiana es más que un proceso. Es un ministerio. Es una forma de utilizar la mente de Cristo y un corazón de amor. El pecado Ha traído miseria y dolor a este mundo, pero Dios ha hecho provisión para sanar y dar esperanza. Los consejeros cristianos son únicos. Ven al cliente como más que un sujeto que necesita ayuda. Un cliente es un alma que debe salvarse; un candidato para el cielo. Aunque los consejeros puedan diferir en método y propuestas, todos somos seguidores de Cristo. Poseemos un manual en común; la Biblia. Tenemos un Recurso: Jesús. Nuestro modelo es el Consejero Maravilloso. No tenemos nada que teme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7920" y="695160"/>
            <a:ext cx="4641840" cy="3481560"/>
          </a:xfrm>
          <a:prstGeom prst="rect">
            <a:avLst/>
          </a:prstGeom>
          <a:ln w="0">
            <a:noFill/>
          </a:ln>
        </p:spPr>
      </p:sp>
      <p:sp>
        <p:nvSpPr>
          <p:cNvPr id="15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PUESTAS BÁSICAS DE CONSEJERÍ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bueno que estemos informadas de las propuestas clásicas para aconsejar. No nos valemos de una sola. Lo que se recomienda es que nos familiaricemos con todas las propuestas y entonces quizá, mezclar las ideas que más nos apelen.  Existen algunas teorías con las cuales no podemos concordar. Sin embargo, es educativamente beneficioso que las conozcamos. Lo que se suele hacer, es tomar las mejores ideas de cada propuesta para formar nuestra propia metodología de consejería. Presentamos a continuación las propuestas básicas de consejería. </a:t>
            </a:r>
            <a:r>
              <a:rPr b="0" lang="en-US" sz="1200" spc="-1" strike="noStrike">
                <a:solidFill>
                  <a:srgbClr val="000000"/>
                </a:solidFill>
                <a:latin typeface="Times New Roman"/>
              </a:rPr>
              <a:t> (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7920" y="695160"/>
            <a:ext cx="4641840" cy="3481560"/>
          </a:xfrm>
          <a:prstGeom prst="rect">
            <a:avLst/>
          </a:prstGeom>
          <a:ln w="0">
            <a:noFill/>
          </a:ln>
        </p:spPr>
      </p:sp>
      <p:sp>
        <p:nvSpPr>
          <p:cNvPr id="16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psicoanalí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sicoanálisis es un método de psicoterapia y teoría de la personalidad con una propuesta filosófica para la naturaleza humana. Sigmund Freud (1856-1939) fue el fundador del psicoanálisis. De acuerdo a Freud, los seres humanos están básicamente determinados por la energía psíquica y las experiencias tempranas. La conducta de la gente está influenciada por motivos y conflictos inconscien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reud afirma la importancia de un desarrollo temprano y de un desarrollo de etapas, a los que se refiere como etapas </a:t>
            </a:r>
            <a:r>
              <a:rPr b="1" lang="es-ES" sz="1200" spc="-1" strike="noStrike">
                <a:solidFill>
                  <a:srgbClr val="000000"/>
                </a:solidFill>
                <a:latin typeface="Times New Roman"/>
              </a:rPr>
              <a:t>psico-sexuales</a:t>
            </a:r>
            <a:r>
              <a:rPr b="0" lang="es-ES" sz="1200" spc="-1" strike="noStrike">
                <a:solidFill>
                  <a:srgbClr val="000000"/>
                </a:solidFill>
                <a:latin typeface="Times New Roman"/>
              </a:rPr>
              <a:t>: la etapa oral (el primer año de vida), la etapa anal (de 1 a 3 años), la etapa fálica (de 3 a 6 años), la etapa latente (de 6 a 12 años), la etapa genital (de 12 a 18 años), la etapa genital continúa a través del resto de la vida de una person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rofesión de consejería da crédito a la teoría psicoanalítica, proveyendo las herramientas para una comprensión profunda del desarrollo de la persona. Freud argumenta que los sentimientos de amor y confianza, relacionados con sentimientos negativos y el desarrollo de una aceptación positiva de la sexualidad, son áreas sociales que se forman en los primeros seis años de vida. Más adelante, el desarrollo de la personalidad se construye sobre lo que se adquirió en este período de vi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ric Erikson construyó sobre las ideas de Freud y por extensión insiste en los aspectos sociales del desarrollo de la persona. Estas se llaman etapas </a:t>
            </a:r>
            <a:r>
              <a:rPr b="1" lang="es-ES" sz="1200" spc="-1" strike="noStrike">
                <a:solidFill>
                  <a:srgbClr val="000000"/>
                </a:solidFill>
                <a:latin typeface="Times New Roman"/>
              </a:rPr>
              <a:t>psico-sociales: </a:t>
            </a:r>
            <a:r>
              <a:rPr b="0" lang="es-ES" sz="1200" spc="-1" strike="noStrike">
                <a:solidFill>
                  <a:srgbClr val="000000"/>
                </a:solidFill>
                <a:latin typeface="Times New Roman"/>
              </a:rPr>
              <a:t>infancia (confianza versus desconfianza), niñez temprana (autonomía versus vergüenza y duda), edad preescolar (iniciativa versus culpa), edad escolar (industria versus inferioridad), adolescencia (identidad versus confusión de rol), adultez temprana (intimidad versus aislamiento), edad mediana (fecundidad-estancamiento) y ancianidad (integridad versus desánim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aplicar cualquier aspecto de la teoría del psicoanálisis a su propio crecimiento perso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eran algunos de sus estereotipos o concepciones equivocadas antes de leer esta inform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asada en lo que ha estudiado acerca de Freud, ¿Puede pensar en alguien cuyos problemas actuales puedan ser el resultado de experiencias durante sus primeros seis años de vida?  Comente es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se siente en relación a la teoría Freudiana?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7920" y="695160"/>
            <a:ext cx="4641840" cy="3481560"/>
          </a:xfrm>
          <a:prstGeom prst="rect">
            <a:avLst/>
          </a:prstGeom>
          <a:ln w="0">
            <a:noFill/>
          </a:ln>
        </p:spPr>
      </p:sp>
      <p:sp>
        <p:nvSpPr>
          <p:cNvPr id="16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Adleri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fred Adler (1870-1937) no estaba de acuerdo con las teorías básicas de Freud. Pensaba que Freud era demasiado estrecho en su énfasis en la determinación biológica y sexual. Al igual que Freud, sin embargo, Adler creía que los primeros seis años de vida influyen sobre el individuo. No se enfoca en los eventos del pasado como lo hizo Freud. Él está más interesado en cómo interpreta uno su pasado y su continua influencia sobre la pers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ler fue básicamente opuesto a las teorías de Freud.  Era su creencia que los seres humanos están primariamente motivados por impulsos sociales más bien que por impulsos sexu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algunas de las diferencias más grandes entre las teorías de Freud y de Adle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existen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visión existencialista nos conduce a ser capaces de reflexionar y decidir. Esto es posible a través de nuestra auto conciencia. No existe un solo fundador de la propuesta existencial, pero Viktor Frankl, Abraham Maslow, y Rollo May son figuras claves. La terapia existencial es más una propuesta para la consejería que un modelo teór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oría existencial se centra en la naturaleza de la condición humana. El desarrollo de la personalidad es visto como un ser basado en las características únicas de cada individuo. El sentido del yo se desarrolla desde la inf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significa la libertad personal para usted? ¿Piensa que lo que usted es ahora es la consecuencia de sus elecciones o de las circunstancia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41840" cy="3481560"/>
          </a:xfrm>
          <a:prstGeom prst="rect">
            <a:avLst/>
          </a:prstGeom>
          <a:ln w="0">
            <a:noFill/>
          </a:ln>
        </p:spPr>
      </p:sp>
      <p:sp>
        <p:nvSpPr>
          <p:cNvPr id="16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centrada en la pers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fundador original de la terapia centrada en la persona es  Carl Rogers (1902-1987).  Porque Rogers colocó mucho énfasis en cómo la gente consigue, comparte, o entrega poder y control sobre sí mismos y otros, su teoría llegó a conocerse como una propuesta centrada en la persona. Él desarrolló lo que se conoce como  </a:t>
            </a:r>
            <a:r>
              <a:rPr b="0" i="1" lang="es-ES" sz="1200" spc="-1" strike="noStrike">
                <a:solidFill>
                  <a:srgbClr val="000000"/>
                </a:solidFill>
                <a:latin typeface="Times New Roman"/>
              </a:rPr>
              <a:t>consejería no impositiva</a:t>
            </a:r>
            <a:r>
              <a:rPr b="0" lang="es-ES" sz="1200" spc="-1" strike="noStrike">
                <a:solidFill>
                  <a:srgbClr val="000000"/>
                </a:solidFill>
                <a:latin typeface="Times New Roman"/>
              </a:rPr>
              <a:t>.  Los consejeros no dirigidos no comparten mucho acerca de sí mismos con sus clientes. Se enfocan en reflejar y clarificar las comunicaciones verbales y no verbales de sus cl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acuerdo con la terapia centrada en la persona, la relación terapeuta- cliente es muy importante. Las técnicas básicas incluyen: audición activa, reflexión de sentimientos, clarificación y “estar allí” para el aconsej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uede existir en su interior que dificulte su comprensión e identificación con los demás? ¿Puede recordar experiencias personales que podrían ayudarla a identificarse con las luchas de su clien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de Gest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rederick S. Perls (1893-1970) fue el fundador y desarrollador de la teoría de Gestalt.  Esta es una propuesta existencial que enfatiza que la gente debe encontrar su propia forma de vida y aceptar una responsabilidad personal por la madurez. Desarrollando una conciencia  de lo que están haciendo, los clientes pueden utilizar esta comprensión para producir camb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centra mayormente en tratar con asuntos inconclusos de las experiencias traumáticas del pasado en la vida del cliente. Las técnicas incluyen: confrontación, diálogo con las partes, juego de roles, revivir y volver a experimentar asuntos inconclusos que se presentan como resentimientos y culpabilidad. El énfasis de esta terapia está en hacer y experimentar más bien que tan solo hablar acerca de los sentimientos pers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rapia de Gestalt se enfoca en “revivir” experiencias traumáticas del pasado más bien que meramente hablar de los sentimientos personales. ¿Cuáles son sus impresiones de esta clase de terapi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álisis transaccional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oría de análisis transaccional fue fundad por Eric Berne (1910-1970).  Esta terapia es muy diferente de las demás, en que se centra en las decisiones y contratos hechos por el cliente. La filosofía básica es que el cliente tiene la posibilidad de elegir. Un contrato hecho por el cliente declara claramente las direcciones y blancos del proceso terapéutico. La Teoría de Análisis transaccional (AT) enseña que la personalidad está formada por </a:t>
            </a:r>
            <a:r>
              <a:rPr b="0" i="1" lang="es-ES" sz="1200" spc="-1" strike="noStrike">
                <a:solidFill>
                  <a:srgbClr val="000000"/>
                </a:solidFill>
                <a:latin typeface="Times New Roman"/>
              </a:rPr>
              <a:t>Padre, Adulto y Niño.  </a:t>
            </a:r>
            <a:r>
              <a:rPr b="0" lang="es-ES" sz="1200" spc="-1" strike="noStrike">
                <a:solidFill>
                  <a:srgbClr val="000000"/>
                </a:solidFill>
                <a:latin typeface="Times New Roman"/>
              </a:rPr>
              <a:t>Otras palabras claves utilizadas por la TA incluye: </a:t>
            </a:r>
            <a:r>
              <a:rPr b="0" i="1" lang="es-ES" sz="1200" spc="-1" strike="noStrike">
                <a:solidFill>
                  <a:srgbClr val="000000"/>
                </a:solidFill>
                <a:latin typeface="Times New Roman"/>
              </a:rPr>
              <a:t>juego, decisión, escritura de vida, re-decisión, golpe y descu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algunos juegos y estrategias que utilizaría como niño con su familia y que usted es conciente de que los utiliza en el presente para relacionarse con la g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recordar algunas decisiones tempranas básicas que usted tomó en su niñez?  ¿Aparecen todavía esas decisiones en su conducta presen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EEE74-FAA8-4B4D-8237-1516B7F70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6D7D7-F1D8-4BF5-82AE-699B0211F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BD931-FBDA-44B8-8E25-729D20103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36004-1D96-4BDD-B470-FA9CA758B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A31989-4B3E-44CC-BAF3-A9B1BC114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FA9636-613B-458F-8A5A-E824875B6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D0578-64FB-4AF9-BE8E-64E6F4072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6C5A5-F38F-4C1D-8A85-7F3C20DAB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40FC6-C714-4C94-916E-1BFF79503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2E3A0-B6CD-440F-BB95-33248C234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240F1-667F-4622-B3B5-9DEE0CBB6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E7416-0FD3-4A83-8C5B-58C82011D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50764-8C7D-4F9E-B136-022E804AB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A2730-2DC4-41DB-ABA7-229E2D419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D747D-5EE4-450B-A86E-FA282A9AC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B8C34-AE39-493B-AA8B-5E56F331C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8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20F71-CAF5-4AE4-BCCD-890F17DA82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4B83F-D7CE-45F4-BA37-BB2B141B4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554CE-6E9D-426F-A792-B31F01F5E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5AE5C-C61B-4950-B095-EE878FFAB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70B75-8159-4818-9F76-BAAAC9558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07838-6D1A-403A-BD1D-9696D93FB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E3D46-D681-4CD6-9EB9-D104B75A1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115B-12CD-4BB3-87B6-82C9A780A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1" name="PlaceHolder 2"/>
          <p:cNvSpPr>
            <a:spLocks noGrp="1"/>
          </p:cNvSpPr>
          <p:nvPr>
            <p:ph type="body"/>
          </p:nvPr>
        </p:nvSpPr>
        <p:spPr>
          <a:xfrm>
            <a:off x="1980720" y="1980720"/>
            <a:ext cx="6782040" cy="4343400"/>
          </a:xfrm>
          <a:prstGeom prst="rect">
            <a:avLst/>
          </a:prstGeom>
          <a:noFill/>
          <a:ln w="0">
            <a:noFill/>
          </a:ln>
        </p:spPr>
        <p:txBody>
          <a:bodyPr lIns="90000" rIns="90000" tIns="46800" bIns="46800" anchor="t">
            <a:normAutofit fontScale="83000"/>
          </a:bodyPr>
          <a:p>
            <a:pPr marL="284400" indent="-28440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Click to edit the outline text format</a:t>
            </a:r>
            <a:endParaRPr b="0" lang="en-US" sz="3600" spc="-1" strike="noStrike">
              <a:solidFill>
                <a:srgbClr val="ffffff"/>
              </a:solidFill>
              <a:latin typeface="Georgia"/>
            </a:endParaRPr>
          </a:p>
          <a:p>
            <a:pPr lvl="1" marL="616680" indent="-2372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cond Outline Level</a:t>
            </a:r>
            <a:endParaRPr b="0" lang="en-US" sz="3600" spc="-1" strike="noStrike">
              <a:solidFill>
                <a:srgbClr val="ffffff"/>
              </a:solidFill>
              <a:latin typeface="Georgia"/>
            </a:endParaRPr>
          </a:p>
          <a:p>
            <a:pPr lvl="2" marL="94860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ird Outline Level</a:t>
            </a:r>
            <a:endParaRPr b="0" lang="en-US" sz="3600" spc="-1" strike="noStrike">
              <a:solidFill>
                <a:srgbClr val="ffffff"/>
              </a:solidFill>
              <a:latin typeface="Georgia"/>
            </a:endParaRPr>
          </a:p>
          <a:p>
            <a:pPr lvl="3" marL="132804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ourth Outline Level</a:t>
            </a:r>
            <a:endParaRPr b="0" lang="en-US" sz="3600" spc="-1" strike="noStrike">
              <a:solidFill>
                <a:srgbClr val="ffffff"/>
              </a:solidFill>
              <a:latin typeface="Georgia"/>
            </a:endParaRPr>
          </a:p>
          <a:p>
            <a:pPr lvl="4"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ifth Outline Level</a:t>
            </a:r>
            <a:endParaRPr b="0" lang="en-US" sz="3600" spc="-1" strike="noStrike">
              <a:solidFill>
                <a:srgbClr val="ffffff"/>
              </a:solidFill>
              <a:latin typeface="Georgia"/>
            </a:endParaRPr>
          </a:p>
          <a:p>
            <a:pPr lvl="5"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ixth Outline Level</a:t>
            </a:r>
            <a:endParaRPr b="0" lang="en-US" sz="3600" spc="-1" strike="noStrike">
              <a:solidFill>
                <a:srgbClr val="ffffff"/>
              </a:solidFill>
              <a:latin typeface="Georgia"/>
            </a:endParaRPr>
          </a:p>
          <a:p>
            <a:pPr lvl="6"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venth Outline Level</a:t>
            </a:r>
            <a:endParaRPr b="0" lang="en-US" sz="3600" spc="-1" strike="noStrike">
              <a:solidFill>
                <a:srgbClr val="ffffff"/>
              </a:solidFill>
              <a:latin typeface="Georgia"/>
            </a:endParaRPr>
          </a:p>
        </p:txBody>
      </p:sp>
      <p:sp>
        <p:nvSpPr>
          <p:cNvPr id="2" name="PlaceHolder 3"/>
          <p:cNvSpPr>
            <a:spLocks noGrp="1"/>
          </p:cNvSpPr>
          <p:nvPr>
            <p:ph type="dt" idx="1"/>
          </p:nvPr>
        </p:nvSpPr>
        <p:spPr>
          <a:xfrm>
            <a:off x="1981080" y="6477120"/>
            <a:ext cx="19051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962160" y="6477120"/>
            <a:ext cx="281916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477120"/>
            <a:ext cx="19051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2F34-8804-4CB8-88F2-1F7277801F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2057400"/>
            <a:ext cx="5638680" cy="12952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42" name="PlaceHolder 2"/>
          <p:cNvSpPr>
            <a:spLocks noGrp="1"/>
          </p:cNvSpPr>
          <p:nvPr>
            <p:ph type="dt" idx="4"/>
          </p:nvPr>
        </p:nvSpPr>
        <p:spPr>
          <a:xfrm>
            <a:off x="16761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324120"/>
            <a:ext cx="29718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1C87-1A1E-43CC-A978-5AF445DFD3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1600200"/>
            <a:ext cx="7619760" cy="14479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Copperplate Gothic Bold"/>
              </a:rPr>
              <a:t>Principios de visitación</a:t>
            </a:r>
            <a:r>
              <a:rPr b="0" lang="es-ES" sz="5400" spc="-1" strike="noStrike">
                <a:solidFill>
                  <a:srgbClr val="ffffff"/>
                </a:solidFill>
                <a:latin typeface="Copperplate Gothic Bold"/>
              </a:rPr>
              <a:t>	</a:t>
            </a:r>
            <a:endParaRPr b="0" lang="en-US" sz="5400" spc="-1" strike="noStrike">
              <a:solidFill>
                <a:srgbClr val="ffffff"/>
              </a:solidFill>
              <a:latin typeface="Copperplate Gothic Bold"/>
            </a:endParaRPr>
          </a:p>
        </p:txBody>
      </p:sp>
      <p:sp>
        <p:nvSpPr>
          <p:cNvPr id="89" name="PlaceHolder 2"/>
          <p:cNvSpPr>
            <a:spLocks noGrp="1"/>
          </p:cNvSpPr>
          <p:nvPr>
            <p:ph/>
          </p:nvPr>
        </p:nvSpPr>
        <p:spPr>
          <a:xfrm>
            <a:off x="1600200" y="4190760"/>
            <a:ext cx="6781680" cy="1523880"/>
          </a:xfrm>
          <a:prstGeom prst="rect">
            <a:avLst/>
          </a:prstGeom>
          <a:noFill/>
          <a:ln w="0">
            <a:noFill/>
          </a:ln>
        </p:spPr>
        <p:txBody>
          <a:bodyPr lIns="90000" rIns="90000" tIns="46800" bIns="46800"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urso de liderazgo</a:t>
            </a:r>
            <a:endParaRPr b="0" lang="en-US" sz="2400" spc="-1" strike="noStrike">
              <a:solidFill>
                <a:srgbClr val="ffffff"/>
              </a:solidFill>
              <a:latin typeface="Georgia"/>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Nivel 2</a:t>
            </a:r>
            <a:endParaRPr b="0" lang="en-US" sz="2400" spc="-1" strike="noStrike">
              <a:solidFill>
                <a:srgbClr val="ffffff"/>
              </a:solidFill>
              <a:latin typeface="Georgia"/>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Ministerios de la Mujer de la Asociación General</a:t>
            </a:r>
            <a:endParaRPr b="0" lang="en-US" sz="24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conductista</a:t>
            </a:r>
            <a:endParaRPr b="0" lang="en-US" sz="4400" spc="-1" strike="noStrike">
              <a:solidFill>
                <a:srgbClr val="ffffff"/>
              </a:solidFill>
              <a:latin typeface="Copperplate Gothic Bold"/>
            </a:endParaRPr>
          </a:p>
        </p:txBody>
      </p:sp>
      <p:sp>
        <p:nvSpPr>
          <p:cNvPr id="112" name="PlaceHolder 2"/>
          <p:cNvSpPr>
            <a:spLocks noGrp="1"/>
          </p:cNvSpPr>
          <p:nvPr>
            <p:ph/>
          </p:nvPr>
        </p:nvSpPr>
        <p:spPr>
          <a:xfrm>
            <a:off x="1447920" y="1523520"/>
            <a:ext cx="678168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s la más estudiada y conocida de todas las propuestas de consejería</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Términos más usados – modificación de conducta y terapia conductista</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l terapeuta funciona como un maestro o entrenador</a:t>
            </a:r>
            <a:endParaRPr b="0" lang="en-US" sz="3600" spc="-1" strike="noStrike">
              <a:solidFill>
                <a:srgbClr val="ffffff"/>
              </a:solidFill>
              <a:latin typeface="Georgi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113" name="" descr=""/>
          <p:cNvPicPr/>
          <p:nvPr/>
        </p:nvPicPr>
        <p:blipFill>
          <a:blip r:embed="rId2"/>
          <a:stretch/>
        </p:blipFill>
        <p:spPr>
          <a:xfrm>
            <a:off x="304920" y="4591080"/>
            <a:ext cx="1981080" cy="19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1519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emotiva-racional</a:t>
            </a:r>
            <a:endParaRPr b="0" lang="en-US" sz="4400" spc="-1" strike="noStrike">
              <a:solidFill>
                <a:srgbClr val="ffffff"/>
              </a:solidFill>
              <a:latin typeface="Copperplate Gothic Bold"/>
            </a:endParaRPr>
          </a:p>
        </p:txBody>
      </p:sp>
      <p:sp>
        <p:nvSpPr>
          <p:cNvPr id="115" name="PlaceHolder 2"/>
          <p:cNvSpPr>
            <a:spLocks noGrp="1"/>
          </p:cNvSpPr>
          <p:nvPr>
            <p:ph/>
          </p:nvPr>
        </p:nvSpPr>
        <p:spPr>
          <a:xfrm>
            <a:off x="837720" y="1295280"/>
            <a:ext cx="8077320" cy="4572000"/>
          </a:xfrm>
          <a:prstGeom prst="rect">
            <a:avLst/>
          </a:prstGeom>
          <a:noFill/>
          <a:ln w="0">
            <a:noFill/>
          </a:ln>
        </p:spPr>
        <p:txBody>
          <a:bodyPr lIns="90000" rIns="90000" tIns="46800" bIns="46800" anchor="t">
            <a:normAutofit fontScale="92000"/>
          </a:bodyPr>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bert Ellis es el fundador</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Basada en la presuposición de que los seres humanos nacen con potencial tanto para pensamiento racional como irracional</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nfatiza: pensar, juzgar, decidir y hacer</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reencia de que la gente posee la </a:t>
            </a:r>
            <a:r>
              <a:rPr b="0" lang="es-ES" sz="3600" spc="-1" strike="noStrike">
                <a:solidFill>
                  <a:srgbClr val="ffffff"/>
                </a:solidFill>
                <a:latin typeface="Georgia"/>
              </a:rPr>
              <a:t>	</a:t>
            </a:r>
            <a:r>
              <a:rPr b="0" lang="es-ES" sz="3600" spc="-1" strike="noStrike">
                <a:solidFill>
                  <a:srgbClr val="ffffff"/>
                </a:solidFill>
                <a:latin typeface="Georgia"/>
              </a:rPr>
              <a:t>habilidad de cambiar su conducta</a:t>
            </a:r>
            <a:endParaRPr b="0" lang="en-US" sz="3600" spc="-1" strike="noStrike">
              <a:solidFill>
                <a:srgbClr val="ffffff"/>
              </a:solidFill>
              <a:latin typeface="Georgia"/>
            </a:endParaRPr>
          </a:p>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1218960"/>
            <a:ext cx="59436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de la realidad</a:t>
            </a:r>
            <a:endParaRPr b="0" lang="en-US" sz="4400" spc="-1" strike="noStrike">
              <a:solidFill>
                <a:srgbClr val="ffffff"/>
              </a:solidFill>
              <a:latin typeface="Copperplate Gothic Bold"/>
            </a:endParaRPr>
          </a:p>
        </p:txBody>
      </p:sp>
      <p:sp>
        <p:nvSpPr>
          <p:cNvPr id="117" name="PlaceHolder 2"/>
          <p:cNvSpPr>
            <a:spLocks noGrp="1"/>
          </p:cNvSpPr>
          <p:nvPr>
            <p:ph/>
          </p:nvPr>
        </p:nvSpPr>
        <p:spPr>
          <a:xfrm>
            <a:off x="380520" y="2133720"/>
            <a:ext cx="8458200" cy="396216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Fundada por William Glasser</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foca el presente y la fuerza de la persona</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sume que nosotros elegimos nuestra conducta y somos responsables por ella, por los pensamientos y sentimiento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Utiliza contratos para provocar un cambio de conducta</a:t>
            </a:r>
            <a:endParaRPr b="0" lang="en-US" sz="3200" spc="-1" strike="noStrike">
              <a:solidFill>
                <a:srgbClr val="ffffff"/>
              </a:solidFill>
              <a:latin typeface="Georgi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18" name="" descr=""/>
          <p:cNvPicPr/>
          <p:nvPr/>
        </p:nvPicPr>
        <p:blipFill>
          <a:blip r:embed="rId2"/>
          <a:stretch/>
        </p:blipFill>
        <p:spPr>
          <a:xfrm>
            <a:off x="6858000" y="609480"/>
            <a:ext cx="1809720" cy="18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L CLIENTE</a:t>
            </a:r>
            <a:endParaRPr b="0" lang="en-US" sz="4400" spc="-1" strike="noStrike">
              <a:solidFill>
                <a:srgbClr val="ffffff"/>
              </a:solidFill>
              <a:latin typeface="Copperplate Gothic Bold"/>
            </a:endParaRPr>
          </a:p>
        </p:txBody>
      </p:sp>
      <p:sp>
        <p:nvSpPr>
          <p:cNvPr id="120" name="PlaceHolder 2"/>
          <p:cNvSpPr>
            <a:spLocks noGrp="1"/>
          </p:cNvSpPr>
          <p:nvPr>
            <p:ph/>
          </p:nvPr>
        </p:nvSpPr>
        <p:spPr>
          <a:xfrm>
            <a:off x="1447920" y="1676520"/>
            <a:ext cx="6705360" cy="3962160"/>
          </a:xfrm>
          <a:prstGeom prst="rect">
            <a:avLst/>
          </a:prstGeom>
          <a:noFill/>
          <a:ln w="0">
            <a:noFill/>
          </a:ln>
        </p:spPr>
        <p:txBody>
          <a:bodyPr lIns="90000" rIns="90000" tIns="46800" bIns="46800" anchor="t">
            <a:normAutofit fontScale="86000"/>
          </a:bodyPr>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strategias para tratar con clientes reluctantes:</a:t>
            </a:r>
            <a:endParaRPr b="0" lang="en-US" sz="3200" spc="-1" strike="noStrike">
              <a:solidFill>
                <a:srgbClr val="ffffff"/>
              </a:solidFill>
              <a:latin typeface="Georgia"/>
            </a:endParaRPr>
          </a:p>
          <a:p>
            <a:pPr marL="589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Rehúse considerarse a usted misma como blanco de reluctancia.</a:t>
            </a:r>
            <a:endParaRPr b="0" lang="en-US" sz="3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Demuestre confianza y no se muestre intimidada.</a:t>
            </a:r>
            <a:endParaRPr b="0" lang="en-US" sz="3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No ignore los sentimientos del cliente.</a:t>
            </a:r>
            <a:endParaRPr b="0" lang="en-US" sz="3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589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589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95280" y="380880"/>
            <a:ext cx="7772400" cy="5486400"/>
          </a:xfrm>
          <a:prstGeom prst="rect">
            <a:avLst/>
          </a:prstGeom>
          <a:noFill/>
          <a:ln w="0">
            <a:noFill/>
          </a:ln>
        </p:spPr>
        <p:txBody>
          <a:bodyPr lIns="90000" rIns="90000" tIns="46800" bIns="46800" anchor="t">
            <a:normAutofit fontScale="89000"/>
          </a:bodyPr>
          <a:p>
            <a:pPr marL="610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	</a:t>
            </a:r>
            <a:r>
              <a:rPr b="0" lang="es-ES" sz="3600" spc="-1" strike="noStrike">
                <a:solidFill>
                  <a:srgbClr val="ffffff"/>
                </a:solidFill>
                <a:latin typeface="Georgia"/>
              </a:rPr>
              <a:t>Estrategias</a:t>
            </a:r>
            <a:r>
              <a:rPr b="0" lang="en-US" sz="3600" spc="-1" strike="noStrike">
                <a:solidFill>
                  <a:srgbClr val="ffffff"/>
                </a:solidFill>
                <a:latin typeface="Georgia"/>
              </a:rPr>
              <a:t> cont:</a:t>
            </a:r>
            <a:endParaRPr b="0" lang="en-US" sz="3600" spc="-1" strike="noStrike">
              <a:solidFill>
                <a:srgbClr val="ffffff"/>
              </a:solidFill>
              <a:latin typeface="Georgia"/>
            </a:endParaRPr>
          </a:p>
          <a:p>
            <a:pPr marL="610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rate de interpretar las razones para la reluctancia y utilícelas como una oportunidad para enseñarle al cliente una mayor auto comprensión. </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muéstrele al cliente que la consejería le ayudará a manejar los sentimientos aunque éstos le resulten incómodos.</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Una paciente exploración del comportamiento del cliente puede ayudar a reducir la reluctancia.</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carar directamente el trabajo elimina barreras.</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22824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Perfil de un consejero</a:t>
            </a:r>
            <a:endParaRPr b="0" lang="en-US" sz="4400" spc="-1" strike="noStrike">
              <a:solidFill>
                <a:srgbClr val="ffffff"/>
              </a:solidFill>
              <a:latin typeface="Copperplate Gothic Bold"/>
            </a:endParaRPr>
          </a:p>
        </p:txBody>
      </p:sp>
      <p:sp>
        <p:nvSpPr>
          <p:cNvPr id="123" name="PlaceHolder 2"/>
          <p:cNvSpPr>
            <a:spLocks noGrp="1"/>
          </p:cNvSpPr>
          <p:nvPr>
            <p:ph/>
          </p:nvPr>
        </p:nvSpPr>
        <p:spPr>
          <a:xfrm>
            <a:off x="1219320" y="1447560"/>
            <a:ext cx="678168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nga una identidad</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precie el valor que Dios ha colocado sobre usted</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sté abierto al cambio</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arrolle su propio estilo de consejería</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Sea abierto, sincero y honesto</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arrolle su sentido de humor</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Sea sensible a la cultura de la gente</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219320" y="685440"/>
            <a:ext cx="7315200" cy="6172200"/>
          </a:xfrm>
          <a:prstGeom prst="rect">
            <a:avLst/>
          </a:prstGeom>
          <a:noFill/>
          <a:ln w="0">
            <a:noFill/>
          </a:ln>
        </p:spPr>
        <p:txBody>
          <a:bodyPr lIns="90000" rIns="90000" tIns="46800" bIns="46800" anchor="t">
            <a:normAutofit/>
          </a:bodyPr>
          <a:p>
            <a:pPr marL="34308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	</a:t>
            </a:r>
            <a:r>
              <a:rPr b="0" lang="es-ES" sz="3800" spc="-1" strike="noStrike">
                <a:solidFill>
                  <a:srgbClr val="ffffff"/>
                </a:solidFill>
                <a:latin typeface="Georgia"/>
              </a:rPr>
              <a:t>Perfil</a:t>
            </a:r>
            <a:r>
              <a:rPr b="0" lang="en-US" sz="3800" spc="-1" strike="noStrike">
                <a:solidFill>
                  <a:srgbClr val="ffffff"/>
                </a:solidFill>
                <a:latin typeface="Georgia"/>
              </a:rPr>
              <a:t> cont:</a:t>
            </a:r>
            <a:endParaRPr b="0" lang="en-US" sz="38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Sea optimist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Goce de la vid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Muestre un espíritu</a:t>
            </a:r>
            <a:endParaRPr b="0" lang="en-US" sz="3400" spc="-1" strike="noStrike">
              <a:solidFill>
                <a:srgbClr val="ffffff"/>
              </a:solidFill>
              <a:latin typeface="Georgia"/>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	</a:t>
            </a:r>
            <a:r>
              <a:rPr b="0" lang="es-ES" sz="3400" spc="-1" strike="noStrike">
                <a:solidFill>
                  <a:srgbClr val="ffffff"/>
                </a:solidFill>
                <a:latin typeface="Georgia"/>
              </a:rPr>
              <a:t>desinteresado</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Tenga una reputación de buena confidenci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Sea sensible a las relaciones humanas</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Posea una actitud objetiv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No demuestre pasión por</a:t>
            </a:r>
            <a:endParaRPr b="0" lang="en-US" sz="3400" spc="-1" strike="noStrike">
              <a:solidFill>
                <a:srgbClr val="ffffff"/>
              </a:solidFill>
              <a:latin typeface="Georgia"/>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	</a:t>
            </a:r>
            <a:r>
              <a:rPr b="0" lang="es-ES" sz="3400" spc="-1" strike="noStrike">
                <a:solidFill>
                  <a:srgbClr val="ffffff"/>
                </a:solidFill>
                <a:latin typeface="Georgia"/>
              </a:rPr>
              <a:t>reformar a todo el mundo</a:t>
            </a:r>
            <a:endParaRPr b="0" lang="en-US" sz="3400" spc="-1" strike="noStrike">
              <a:solidFill>
                <a:srgbClr val="ffffff"/>
              </a:solidFill>
              <a:latin typeface="Georgia"/>
            </a:endParaRPr>
          </a:p>
        </p:txBody>
      </p:sp>
      <p:pic>
        <p:nvPicPr>
          <p:cNvPr id="125" name="" descr=""/>
          <p:cNvPicPr/>
          <p:nvPr/>
        </p:nvPicPr>
        <p:blipFill>
          <a:blip r:embed="rId2"/>
          <a:stretch/>
        </p:blipFill>
        <p:spPr>
          <a:xfrm>
            <a:off x="5867280" y="457200"/>
            <a:ext cx="3021120" cy="264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066320" y="380880"/>
            <a:ext cx="6782040" cy="6019920"/>
          </a:xfrm>
          <a:prstGeom prst="rect">
            <a:avLst/>
          </a:prstGeom>
          <a:noFill/>
          <a:ln w="0">
            <a:noFill/>
          </a:ln>
        </p:spPr>
        <p:txBody>
          <a:bodyPr lIns="90000" rIns="90000" tIns="46800" bIns="46800" anchor="t">
            <a:normAutofit fontScale="96000"/>
          </a:bodyPr>
          <a:p>
            <a:pPr marL="32904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	</a:t>
            </a:r>
            <a:r>
              <a:rPr b="0" lang="es-ES" sz="3800" spc="-1" strike="noStrike">
                <a:solidFill>
                  <a:srgbClr val="ffffff"/>
                </a:solidFill>
                <a:latin typeface="Georgia"/>
              </a:rPr>
              <a:t>Perfil</a:t>
            </a:r>
            <a:r>
              <a:rPr b="0" lang="en-US" sz="3800" spc="-1" strike="noStrike">
                <a:solidFill>
                  <a:srgbClr val="ffffff"/>
                </a:solidFill>
                <a:latin typeface="Georgia"/>
              </a:rPr>
              <a:t> cont:</a:t>
            </a:r>
            <a:endParaRPr b="0" lang="en-US" sz="3800" spc="-1" strike="noStrike">
              <a:solidFill>
                <a:srgbClr val="ffffff"/>
              </a:solidFill>
              <a:latin typeface="Georgia"/>
            </a:endParaRPr>
          </a:p>
          <a:p>
            <a:pPr marL="32904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Sea natural</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Muestre confianza en la gente y en su potencial para crecer</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prenda a escuchar</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onserve límites</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Mantenga a Dios como</a:t>
            </a:r>
            <a:endParaRPr b="0" lang="en-US" sz="3600" spc="-1" strike="noStrike">
              <a:solidFill>
                <a:srgbClr val="ffffff"/>
              </a:solidFill>
              <a:latin typeface="Georgia"/>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	</a:t>
            </a:r>
            <a:r>
              <a:rPr b="0" lang="es-ES" sz="3600" spc="-1" strike="noStrike">
                <a:solidFill>
                  <a:srgbClr val="ffffff"/>
                </a:solidFill>
                <a:latin typeface="Georgia"/>
              </a:rPr>
              <a:t>su guía</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ffffff"/>
                </a:solidFill>
                <a:latin typeface="Copperplate Gothic Bold"/>
              </a:rPr>
              <a:t>Tipos de consejería</a:t>
            </a:r>
            <a:endParaRPr b="0" lang="en-US" sz="4400" spc="-1" strike="noStrike">
              <a:solidFill>
                <a:srgbClr val="ffffff"/>
              </a:solidFill>
              <a:latin typeface="Copperplate Gothic Bold"/>
            </a:endParaRPr>
          </a:p>
        </p:txBody>
      </p:sp>
      <p:sp>
        <p:nvSpPr>
          <p:cNvPr id="128" name="PlaceHolder 2"/>
          <p:cNvSpPr>
            <a:spLocks noGrp="1"/>
          </p:cNvSpPr>
          <p:nvPr>
            <p:ph/>
          </p:nvPr>
        </p:nvSpPr>
        <p:spPr>
          <a:xfrm>
            <a:off x="1599840" y="2133720"/>
            <a:ext cx="6705720" cy="396216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de apoyo</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de confrontación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educativa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preventiva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espiritual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profunda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informal</a:t>
            </a:r>
            <a:endParaRPr b="0" lang="en-US" sz="3200" spc="-1" strike="noStrike">
              <a:solidFill>
                <a:srgbClr val="ffffff"/>
              </a:solidFill>
              <a:latin typeface="Georgia"/>
            </a:endParaRPr>
          </a:p>
        </p:txBody>
      </p:sp>
      <p:pic>
        <p:nvPicPr>
          <p:cNvPr id="129" name="" descr=""/>
          <p:cNvPicPr/>
          <p:nvPr/>
        </p:nvPicPr>
        <p:blipFill>
          <a:blip r:embed="rId2"/>
          <a:stretch/>
        </p:blipFill>
        <p:spPr>
          <a:xfrm>
            <a:off x="6019920" y="3581280"/>
            <a:ext cx="2789280" cy="254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1142640"/>
            <a:ext cx="75438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Plan de acción de consejería</a:t>
            </a:r>
            <a:endParaRPr b="0" lang="en-US" sz="4400" spc="-1" strike="noStrike">
              <a:solidFill>
                <a:srgbClr val="ffffff"/>
              </a:solidFill>
              <a:latin typeface="Copperplate Gothic Bold"/>
            </a:endParaRPr>
          </a:p>
        </p:txBody>
      </p:sp>
      <p:sp>
        <p:nvSpPr>
          <p:cNvPr id="131" name="PlaceHolder 2"/>
          <p:cNvSpPr>
            <a:spLocks noGrp="1"/>
          </p:cNvSpPr>
          <p:nvPr>
            <p:ph/>
          </p:nvPr>
        </p:nvSpPr>
        <p:spPr>
          <a:xfrm>
            <a:off x="380880" y="2286000"/>
            <a:ext cx="7848720" cy="1905120"/>
          </a:xfrm>
          <a:prstGeom prst="rect">
            <a:avLst/>
          </a:prstGeom>
          <a:noFill/>
          <a:ln w="0">
            <a:noFill/>
          </a:ln>
        </p:spPr>
        <p:txBody>
          <a:bodyPr lIns="90000" rIns="90000" tIns="46800" bIns="46800" anchor="t">
            <a:normAutofit/>
          </a:bodyPr>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eorgia"/>
              </a:rPr>
              <a:t>Definir el problema</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eorgia"/>
              </a:rPr>
              <a:t>Establecer metas</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eorgia"/>
              </a:rPr>
              <a:t>Cambios de conducta</a:t>
            </a:r>
            <a:endParaRPr b="0" lang="en-US" sz="4000" spc="-1" strike="noStrike">
              <a:solidFill>
                <a:srgbClr val="ffffff"/>
              </a:solidFill>
              <a:latin typeface="Georgia"/>
            </a:endParaRPr>
          </a:p>
        </p:txBody>
      </p:sp>
      <p:pic>
        <p:nvPicPr>
          <p:cNvPr id="132" name="" descr=""/>
          <p:cNvPicPr/>
          <p:nvPr/>
        </p:nvPicPr>
        <p:blipFill>
          <a:blip r:embed="rId2"/>
          <a:stretch/>
        </p:blipFill>
        <p:spPr>
          <a:xfrm>
            <a:off x="5410080" y="2871720"/>
            <a:ext cx="3375000" cy="31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6094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El ambiente</a:t>
            </a:r>
            <a:endParaRPr b="0" lang="en-US" sz="4400" spc="-1" strike="noStrike">
              <a:solidFill>
                <a:srgbClr val="ffffff"/>
              </a:solidFill>
              <a:latin typeface="Copperplate Gothic Bold"/>
            </a:endParaRPr>
          </a:p>
        </p:txBody>
      </p:sp>
      <p:sp>
        <p:nvSpPr>
          <p:cNvPr id="91" name="PlaceHolder 2"/>
          <p:cNvSpPr>
            <a:spLocks noGrp="1"/>
          </p:cNvSpPr>
          <p:nvPr>
            <p:ph/>
          </p:nvPr>
        </p:nvSpPr>
        <p:spPr>
          <a:xfrm>
            <a:off x="380880" y="1676520"/>
            <a:ext cx="8763120" cy="449568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 que es de extrema importancia es la privacidad.</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Se necesita un sentimiento de seguridad emocional y físic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unque es aceptable la simplicidad en el moblaje, es necesaria cierta comodidad.</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rregle las sillas para que el cliente pueda escoger dónde sentarse.</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rate de presentar una apariencia calma, placentera y preparada.</a:t>
            </a:r>
            <a:endParaRPr b="0" lang="en-US" sz="3200" spc="-1" strike="noStrike">
              <a:solidFill>
                <a:srgbClr val="ffffff"/>
              </a:solidFill>
              <a:latin typeface="Georgi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Ética en consejería</a:t>
            </a:r>
            <a:endParaRPr b="0" lang="en-US" sz="4400" spc="-1" strike="noStrike">
              <a:solidFill>
                <a:srgbClr val="ffffff"/>
              </a:solidFill>
              <a:latin typeface="Copperplate Gothic Bold"/>
            </a:endParaRPr>
          </a:p>
        </p:txBody>
      </p:sp>
      <p:sp>
        <p:nvSpPr>
          <p:cNvPr id="134" name="PlaceHolder 2"/>
          <p:cNvSpPr>
            <a:spLocks noGrp="1"/>
          </p:cNvSpPr>
          <p:nvPr>
            <p:ph/>
          </p:nvPr>
        </p:nvSpPr>
        <p:spPr>
          <a:xfrm>
            <a:off x="91404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s de la mayor importancia que un consejero preste estricta atención a la ética en consejería.</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uando hablamos de ética nos referimos a la buena y mala práctica de consejería.</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10666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Ética en consejería (Cont.)</a:t>
            </a:r>
            <a:endParaRPr b="0" lang="en-US" sz="4400" spc="-1" strike="noStrike">
              <a:solidFill>
                <a:srgbClr val="ffffff"/>
              </a:solidFill>
              <a:latin typeface="Copperplate Gothic Bold"/>
            </a:endParaRPr>
          </a:p>
        </p:txBody>
      </p:sp>
      <p:sp>
        <p:nvSpPr>
          <p:cNvPr id="136" name="PlaceHolder 2"/>
          <p:cNvSpPr>
            <a:spLocks noGrp="1"/>
          </p:cNvSpPr>
          <p:nvPr>
            <p:ph/>
          </p:nvPr>
        </p:nvSpPr>
        <p:spPr>
          <a:xfrm>
            <a:off x="2057040" y="2133720"/>
            <a:ext cx="6172200" cy="350496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s derechos del cliente</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recho a un consentimiento </a:t>
            </a:r>
            <a:r>
              <a:rPr b="0" lang="es-ES" sz="3200" spc="-1" strike="noStrike">
                <a:solidFill>
                  <a:srgbClr val="ffffff"/>
                </a:solidFill>
                <a:latin typeface="Georgia"/>
              </a:rPr>
              <a:t>	</a:t>
            </a:r>
            <a:r>
              <a:rPr b="0" lang="es-ES" sz="3200" spc="-1" strike="noStrike">
                <a:solidFill>
                  <a:srgbClr val="ffffff"/>
                </a:solidFill>
                <a:latin typeface="Georgia"/>
              </a:rPr>
              <a:t>informado</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rechos de menores</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recho a un referente</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ber de proteger y advertir</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37" name="" descr=""/>
          <p:cNvPicPr/>
          <p:nvPr/>
        </p:nvPicPr>
        <p:blipFill>
          <a:blip r:embed="rId2"/>
          <a:stretch/>
        </p:blipFill>
        <p:spPr>
          <a:xfrm>
            <a:off x="457200" y="2209680"/>
            <a:ext cx="1828800" cy="120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456840"/>
            <a:ext cx="678168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opperplate Gothic Bold"/>
              </a:rPr>
              <a:t>Relación social y personal con los clientes</a:t>
            </a:r>
            <a:endParaRPr b="0" lang="en-US" sz="4000" spc="-1" strike="noStrike">
              <a:solidFill>
                <a:srgbClr val="ffffff"/>
              </a:solidFill>
              <a:latin typeface="Copperplate Gothic Bold"/>
            </a:endParaRPr>
          </a:p>
        </p:txBody>
      </p:sp>
      <p:sp>
        <p:nvSpPr>
          <p:cNvPr id="139" name="PlaceHolder 2"/>
          <p:cNvSpPr>
            <a:spLocks noGrp="1"/>
          </p:cNvSpPr>
          <p:nvPr>
            <p:ph/>
          </p:nvPr>
        </p:nvSpPr>
        <p:spPr>
          <a:xfrm>
            <a:off x="914400" y="2361960"/>
            <a:ext cx="6781680" cy="4343400"/>
          </a:xfrm>
          <a:prstGeom prst="rect">
            <a:avLst/>
          </a:prstGeom>
          <a:noFill/>
          <a:ln w="0">
            <a:noFill/>
          </a:ln>
        </p:spPr>
        <p:txBody>
          <a:bodyPr lIns="90000" rIns="90000" tIns="46800" bIns="46800" anchor="t">
            <a:normAutofit/>
          </a:bodyPr>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ómo puede un consejero equilibrar una amistad con una relación terapéutica?</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 esta relación se la denomina “relación dual”</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Tenga cuidado con la explotación</a:t>
            </a:r>
            <a:endParaRPr b="0" lang="en-US" sz="3600" spc="-1" strike="noStrike">
              <a:solidFill>
                <a:srgbClr val="ffffff"/>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140" name="" descr=""/>
          <p:cNvPicPr/>
          <p:nvPr/>
        </p:nvPicPr>
        <p:blipFill>
          <a:blip r:embed="rId2"/>
          <a:srcRect l="0" t="0" r="0" b="31543"/>
          <a:stretch/>
        </p:blipFill>
        <p:spPr>
          <a:xfrm>
            <a:off x="5981760" y="5105520"/>
            <a:ext cx="3162240" cy="152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5331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Contacto físico con clientes</a:t>
            </a:r>
            <a:endParaRPr b="0" lang="en-US" sz="4400" spc="-1" strike="noStrike">
              <a:solidFill>
                <a:srgbClr val="ffffff"/>
              </a:solidFill>
              <a:latin typeface="Copperplate Gothic Bold"/>
            </a:endParaRPr>
          </a:p>
        </p:txBody>
      </p:sp>
      <p:sp>
        <p:nvSpPr>
          <p:cNvPr id="142" name="PlaceHolder 2"/>
          <p:cNvSpPr>
            <a:spLocks noGrp="1"/>
          </p:cNvSpPr>
          <p:nvPr>
            <p:ph/>
          </p:nvPr>
        </p:nvSpPr>
        <p:spPr>
          <a:xfrm>
            <a:off x="1066320" y="1828440"/>
            <a:ext cx="6782040" cy="4343400"/>
          </a:xfrm>
          <a:prstGeom prst="rect">
            <a:avLst/>
          </a:prstGeom>
          <a:noFill/>
          <a:ln w="0">
            <a:noFill/>
          </a:ln>
        </p:spPr>
        <p:txBody>
          <a:bodyPr lIns="90000" rIns="90000" tIns="46800" bIns="46800"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lgunos lineamientos sugeridos para un toque físico apropiado:</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lientes social y emocionalmente inmaduros</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uando se aconseja a personas en crisis</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uando se ofrece un apoyo emocional en forma general</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uando se saluda al comienzo</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	</a:t>
            </a:r>
            <a:r>
              <a:rPr b="0" lang="es-ES" sz="3200" spc="-1" strike="noStrike">
                <a:solidFill>
                  <a:srgbClr val="ffffff"/>
                </a:solidFill>
                <a:latin typeface="Georgia"/>
              </a:rPr>
              <a:t>o al final de una sesión</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609480"/>
            <a:ext cx="6705720" cy="137160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Qué hacer con pacientes suicidas</a:t>
            </a:r>
            <a:r>
              <a:rPr b="0" lang="en-US" sz="4400" spc="-1" strike="noStrike">
                <a:solidFill>
                  <a:srgbClr val="ffffff"/>
                </a:solidFill>
                <a:latin typeface="Copperplate Gothic Bold"/>
              </a:rPr>
              <a:t>?</a:t>
            </a:r>
            <a:endParaRPr b="0" lang="en-US" sz="4400" spc="-1" strike="noStrike">
              <a:solidFill>
                <a:srgbClr val="ffffff"/>
              </a:solidFill>
              <a:latin typeface="Copperplate Gothic Bold"/>
            </a:endParaRPr>
          </a:p>
        </p:txBody>
      </p:sp>
      <p:sp>
        <p:nvSpPr>
          <p:cNvPr id="144" name="PlaceHolder 2"/>
          <p:cNvSpPr>
            <a:spLocks noGrp="1"/>
          </p:cNvSpPr>
          <p:nvPr>
            <p:ph/>
          </p:nvPr>
        </p:nvSpPr>
        <p:spPr>
          <a:xfrm>
            <a:off x="609120" y="1905120"/>
            <a:ext cx="8458200" cy="449568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Regalar posesiones preciada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Hacer o discutir planes de suicidio</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entos o gestos previos de suicidio</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xpresiones de desesperanza y desamparo o impotenci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claraciones de que la familia y los amigos no los extrañarían</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ambio positivo de conducta luego de un período de depresión</a:t>
            </a:r>
            <a:endParaRPr b="0" lang="en-US" sz="3200" spc="-1" strike="noStrike">
              <a:solidFill>
                <a:srgbClr val="ffffff"/>
              </a:solidFill>
              <a:latin typeface="Georgi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45" name="" descr=""/>
          <p:cNvPicPr/>
          <p:nvPr/>
        </p:nvPicPr>
        <p:blipFill>
          <a:blip r:embed="rId2"/>
          <a:stretch/>
        </p:blipFill>
        <p:spPr>
          <a:xfrm>
            <a:off x="7086600" y="609480"/>
            <a:ext cx="1862280" cy="174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560" y="304560"/>
            <a:ext cx="75438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Qué hacer cuando un cliente amenaza con suicidares</a:t>
            </a:r>
            <a:endParaRPr b="0" lang="en-US" sz="4400" spc="-1" strike="noStrike">
              <a:solidFill>
                <a:srgbClr val="ffffff"/>
              </a:solidFill>
              <a:latin typeface="Copperplate Gothic Bold"/>
            </a:endParaRPr>
          </a:p>
        </p:txBody>
      </p:sp>
      <p:sp>
        <p:nvSpPr>
          <p:cNvPr id="147" name="PlaceHolder 2"/>
          <p:cNvSpPr>
            <a:spLocks noGrp="1"/>
          </p:cNvSpPr>
          <p:nvPr>
            <p:ph/>
          </p:nvPr>
        </p:nvSpPr>
        <p:spPr>
          <a:xfrm>
            <a:off x="380520" y="2133720"/>
            <a:ext cx="8534520" cy="3962160"/>
          </a:xfrm>
          <a:prstGeom prst="rect">
            <a:avLst/>
          </a:prstGeom>
          <a:noFill/>
          <a:ln w="0">
            <a:noFill/>
          </a:ln>
        </p:spPr>
        <p:txBody>
          <a:bodyPr lIns="90000" rIns="90000" tIns="46800" bIns="46800" anchor="t">
            <a:normAutofit/>
          </a:bodyPr>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Desarme al cliente y quítele toda arma o sustancia venenosa.</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Recomiende sesiones de consejería frecuentes.</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rregle un método para que el cliente lo llame con frecuencia entre las sesiones para poder evaluar su estado emocional.</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Urja al paciente a buscar ayuda médica y hospitalización.</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No subestime el poder de la oración.</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120" y="457200"/>
            <a:ext cx="6705720" cy="8380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NFIDENCIALIDAD</a:t>
            </a:r>
            <a:endParaRPr b="0" lang="en-US" sz="4400" spc="-1" strike="noStrike">
              <a:solidFill>
                <a:srgbClr val="ffffff"/>
              </a:solidFill>
              <a:latin typeface="Copperplate Gothic Bold"/>
            </a:endParaRPr>
          </a:p>
        </p:txBody>
      </p:sp>
      <p:sp>
        <p:nvSpPr>
          <p:cNvPr id="149" name="PlaceHolder 2"/>
          <p:cNvSpPr>
            <a:spLocks noGrp="1"/>
          </p:cNvSpPr>
          <p:nvPr>
            <p:ph/>
          </p:nvPr>
        </p:nvSpPr>
        <p:spPr>
          <a:xfrm>
            <a:off x="761760" y="1371240"/>
            <a:ext cx="8381880" cy="5334120"/>
          </a:xfrm>
          <a:prstGeom prst="rect">
            <a:avLst/>
          </a:prstGeom>
          <a:noFill/>
          <a:ln w="0">
            <a:noFill/>
          </a:ln>
        </p:spPr>
        <p:txBody>
          <a:bodyPr lIns="90000" rIns="90000" tIns="46800" bIns="46800" anchor="t">
            <a:normAutofit fontScale="98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Circunstancias en que se rompe la confidencialidad:</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los clientes proponen dañarse a sí mismos</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el terapeuta cree que un cliente menor de 16 años ha sido víctima de abuso sexual, incesto, abuso infantil, o algún otro crimen</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el consejero determina que el cliente necesita hospitalización</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la información es un caso para ser presentado a la justicia</a:t>
            </a:r>
            <a:endParaRPr b="0" lang="en-US" sz="30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Conclusión</a:t>
            </a:r>
            <a:endParaRPr b="0" lang="en-US" sz="4400" spc="-1" strike="noStrike">
              <a:solidFill>
                <a:srgbClr val="ffffff"/>
              </a:solidFill>
              <a:latin typeface="Copperplate Gothic Bold"/>
            </a:endParaRPr>
          </a:p>
        </p:txBody>
      </p:sp>
      <p:sp>
        <p:nvSpPr>
          <p:cNvPr id="151" name="PlaceHolder 2"/>
          <p:cNvSpPr>
            <a:spLocks noGrp="1"/>
          </p:cNvSpPr>
          <p:nvPr>
            <p:ph/>
          </p:nvPr>
        </p:nvSpPr>
        <p:spPr>
          <a:xfrm>
            <a:off x="1218960" y="2133720"/>
            <a:ext cx="7543800" cy="3581280"/>
          </a:xfrm>
          <a:prstGeom prst="rect">
            <a:avLst/>
          </a:prstGeom>
          <a:noFill/>
          <a:ln w="0">
            <a:noFill/>
          </a:ln>
        </p:spPr>
        <p:txBody>
          <a:bodyPr lIns="90000" rIns="90000" tIns="46800" bIns="46800" anchor="t">
            <a:normAutofit/>
          </a:bodyPr>
          <a:p>
            <a:pPr>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La consejería cristiana es un ministerio</a:t>
            </a:r>
            <a:endParaRPr b="0" lang="en-US" sz="3600" spc="-1" strike="noStrike">
              <a:solidFill>
                <a:srgbClr val="ffffff"/>
              </a:solidFill>
              <a:latin typeface="Georgia"/>
            </a:endParaRPr>
          </a:p>
          <a:p>
            <a:pPr>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Los consejeros cristianos son únicos</a:t>
            </a:r>
            <a:endParaRPr b="0" lang="en-US" sz="3600" spc="-1" strike="noStrike">
              <a:solidFill>
                <a:srgbClr val="ffffff"/>
              </a:solidFill>
              <a:latin typeface="Georgia"/>
            </a:endParaRPr>
          </a:p>
          <a:p>
            <a:pPr>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Los consejeros cristianos ven a su cliente como un alma que debe salvarse</a:t>
            </a:r>
            <a:endParaRPr b="0" lang="en-US" sz="3600" spc="-1" strike="noStrike">
              <a:solidFill>
                <a:srgbClr val="ffffff"/>
              </a:solidFill>
              <a:latin typeface="Georgia"/>
            </a:endParaRPr>
          </a:p>
        </p:txBody>
      </p:sp>
      <p:pic>
        <p:nvPicPr>
          <p:cNvPr id="152" name="" descr=""/>
          <p:cNvPicPr/>
          <p:nvPr/>
        </p:nvPicPr>
        <p:blipFill>
          <a:blip r:embed="rId2"/>
          <a:srcRect l="0" t="0" r="34262" b="32861"/>
          <a:stretch/>
        </p:blipFill>
        <p:spPr>
          <a:xfrm>
            <a:off x="6804000" y="4724280"/>
            <a:ext cx="23400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Propuestas básicas de consejería</a:t>
            </a:r>
            <a:endParaRPr b="0" lang="en-US" sz="4400" spc="-1" strike="noStrike">
              <a:solidFill>
                <a:srgbClr val="ffffff"/>
              </a:solidFill>
              <a:latin typeface="Copperplate Gothic Bold"/>
            </a:endParaRPr>
          </a:p>
        </p:txBody>
      </p:sp>
      <p:sp>
        <p:nvSpPr>
          <p:cNvPr id="93" name="PlaceHolder 2"/>
          <p:cNvSpPr>
            <a:spLocks noGrp="1"/>
          </p:cNvSpPr>
          <p:nvPr>
            <p:ph/>
          </p:nvPr>
        </p:nvSpPr>
        <p:spPr>
          <a:xfrm>
            <a:off x="1066320" y="1523520"/>
            <a:ext cx="678204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psicoanalítica</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de Adlerian </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existencial</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centrada en la persona</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de Gestalt</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nálisis transaccional </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conductista</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emotiva-racional</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de la realidad</a:t>
            </a:r>
            <a:endParaRPr b="0" lang="en-US" sz="3200" spc="-1" strike="noStrike">
              <a:solidFill>
                <a:srgbClr val="ffffff"/>
              </a:solidFill>
              <a:latin typeface="Georgia"/>
            </a:endParaRPr>
          </a:p>
        </p:txBody>
      </p:sp>
      <p:pic>
        <p:nvPicPr>
          <p:cNvPr id="94" name="" descr=""/>
          <p:cNvPicPr/>
          <p:nvPr/>
        </p:nvPicPr>
        <p:blipFill>
          <a:blip r:embed="rId2"/>
          <a:stretch/>
        </p:blipFill>
        <p:spPr>
          <a:xfrm>
            <a:off x="6553080" y="4997520"/>
            <a:ext cx="2590920" cy="186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Copperplate Gothic Bold"/>
              </a:rPr>
              <a:t>       </a:t>
            </a:r>
            <a:r>
              <a:rPr b="0" lang="es-ES_tradnl" sz="4400" spc="-1" strike="noStrike">
                <a:solidFill>
                  <a:srgbClr val="ffffff"/>
                </a:solidFill>
                <a:latin typeface="Copperplate Gothic Bold"/>
              </a:rPr>
              <a:t>Terapia psicoanalista</a:t>
            </a:r>
            <a:endParaRPr b="0" lang="en-US" sz="4400" spc="-1" strike="noStrike">
              <a:solidFill>
                <a:srgbClr val="ffffff"/>
              </a:solidFill>
              <a:latin typeface="Copperplate Gothic Bold"/>
            </a:endParaRPr>
          </a:p>
        </p:txBody>
      </p:sp>
      <p:sp>
        <p:nvSpPr>
          <p:cNvPr id="96"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Originada por Sigmund Freud</a:t>
            </a:r>
            <a:endParaRPr b="0" lang="en-US" sz="3600" spc="-1" strike="noStrike">
              <a:solidFill>
                <a:srgbClr val="ffffff"/>
              </a:solidFill>
              <a:latin typeface="Georg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t>
            </a:r>
            <a:r>
              <a:rPr b="0" lang="es-ES" sz="3600" spc="-1" strike="noStrike">
                <a:solidFill>
                  <a:srgbClr val="ffffff"/>
                </a:solidFill>
                <a:latin typeface="Georgia"/>
              </a:rPr>
              <a:t>Creencia de que la conducta es influenciada por motivos y conflictos inconsciente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firma la importancia de un desarrollo temprano</a:t>
            </a:r>
            <a:endParaRPr b="0" lang="en-US" sz="3600" spc="-1" strike="noStrike">
              <a:solidFill>
                <a:srgbClr val="ffffff"/>
              </a:solidFill>
              <a:latin typeface="Georg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97" name="" descr=""/>
          <p:cNvPicPr/>
          <p:nvPr/>
        </p:nvPicPr>
        <p:blipFill>
          <a:blip r:embed="rId2"/>
          <a:stretch/>
        </p:blipFill>
        <p:spPr>
          <a:xfrm>
            <a:off x="6400800" y="2819520"/>
            <a:ext cx="2463840" cy="219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Adleriana</a:t>
            </a:r>
            <a:endParaRPr b="0" lang="en-US" sz="4400" spc="-1" strike="noStrike">
              <a:solidFill>
                <a:srgbClr val="ffffff"/>
              </a:solidFill>
              <a:latin typeface="Copperplate Gothic Bold"/>
            </a:endParaRPr>
          </a:p>
        </p:txBody>
      </p:sp>
      <p:sp>
        <p:nvSpPr>
          <p:cNvPr id="99" name="PlaceHolder 2"/>
          <p:cNvSpPr>
            <a:spLocks noGrp="1"/>
          </p:cNvSpPr>
          <p:nvPr>
            <p:ph/>
          </p:nvPr>
        </p:nvSpPr>
        <p:spPr>
          <a:xfrm>
            <a:off x="914040" y="2133720"/>
            <a:ext cx="7543800" cy="3962160"/>
          </a:xfrm>
          <a:prstGeom prst="rect">
            <a:avLst/>
          </a:prstGeom>
          <a:noFill/>
          <a:ln w="0">
            <a:noFill/>
          </a:ln>
        </p:spPr>
        <p:txBody>
          <a:bodyPr lIns="90000" rIns="90000" tIns="46800" bIns="46800" anchor="t">
            <a:normAutofit/>
          </a:bodyPr>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fred Adler no estaba de acuerdo con las teorías de Freud</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 igual que Freud, Adler creía que los primeros seis años de vida influyen sobre el individuo</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Seres humanos motivados por impulsos sociales</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existencial</a:t>
            </a:r>
            <a:endParaRPr b="0" lang="en-US" sz="4400" spc="-1" strike="noStrike">
              <a:solidFill>
                <a:srgbClr val="ffffff"/>
              </a:solidFill>
              <a:latin typeface="Copperplate Gothic Bold"/>
            </a:endParaRPr>
          </a:p>
        </p:txBody>
      </p:sp>
      <p:sp>
        <p:nvSpPr>
          <p:cNvPr id="101" name="PlaceHolder 2"/>
          <p:cNvSpPr>
            <a:spLocks noGrp="1"/>
          </p:cNvSpPr>
          <p:nvPr>
            <p:ph/>
          </p:nvPr>
        </p:nvSpPr>
        <p:spPr>
          <a:xfrm>
            <a:off x="990360" y="2133720"/>
            <a:ext cx="7543800" cy="396216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sta visión nos conduce a reflexionar y decidir</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foca la naturaleza de la condición human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a personalidad de cada individuo es vista como únic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l sentido del yo se desarrolla</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de la infancia</a:t>
            </a:r>
            <a:endParaRPr b="0" lang="en-US" sz="3200" spc="-1" strike="noStrike">
              <a:solidFill>
                <a:srgbClr val="ffffff"/>
              </a:solidFill>
              <a:latin typeface="Georgi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02" name="" descr=""/>
          <p:cNvPicPr/>
          <p:nvPr/>
        </p:nvPicPr>
        <p:blipFill>
          <a:blip r:embed="rId2"/>
          <a:stretch/>
        </p:blipFill>
        <p:spPr>
          <a:xfrm>
            <a:off x="6934320" y="4267080"/>
            <a:ext cx="2209680" cy="209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685440"/>
            <a:ext cx="807696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centrada en la persona</a:t>
            </a:r>
            <a:endParaRPr b="0" lang="en-US" sz="4400" spc="-1" strike="noStrike">
              <a:solidFill>
                <a:srgbClr val="ffffff"/>
              </a:solidFill>
              <a:latin typeface="Copperplate Gothic Bold"/>
            </a:endParaRPr>
          </a:p>
        </p:txBody>
      </p:sp>
      <p:sp>
        <p:nvSpPr>
          <p:cNvPr id="104" name="PlaceHolder 2"/>
          <p:cNvSpPr>
            <a:spLocks noGrp="1"/>
          </p:cNvSpPr>
          <p:nvPr>
            <p:ph/>
          </p:nvPr>
        </p:nvSpPr>
        <p:spPr>
          <a:xfrm>
            <a:off x="761760" y="1828440"/>
            <a:ext cx="8458200" cy="4267080"/>
          </a:xfrm>
          <a:prstGeom prst="rect">
            <a:avLst/>
          </a:prstGeom>
          <a:noFill/>
          <a:ln w="0">
            <a:noFill/>
          </a:ln>
        </p:spPr>
        <p:txBody>
          <a:bodyPr lIns="90000" rIns="90000" tIns="46800" bIns="46800" anchor="t">
            <a:normAutofit fontScale="99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l fundador original fue Carl Roger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fatiza cómo la gente consigue, comparte o rinde el poder y control de sí mismos a otro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arrolla una consejería no impositiva</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écnicas básicas: audición activa, reflexión de sentimientos, clarificación, y “estar allí” para el aconsejado</a:t>
            </a:r>
            <a:endParaRPr b="0" lang="en-US" sz="3200" spc="-1" strike="noStrike">
              <a:solidFill>
                <a:srgbClr val="ffffff"/>
              </a:solidFill>
              <a:latin typeface="Georgi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22824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de Gestalt</a:t>
            </a:r>
            <a:endParaRPr b="0" lang="en-US" sz="4400" spc="-1" strike="noStrike">
              <a:solidFill>
                <a:srgbClr val="ffffff"/>
              </a:solidFill>
              <a:latin typeface="Copperplate Gothic Bold"/>
            </a:endParaRPr>
          </a:p>
        </p:txBody>
      </p:sp>
      <p:sp>
        <p:nvSpPr>
          <p:cNvPr id="106" name="PlaceHolder 2"/>
          <p:cNvSpPr>
            <a:spLocks noGrp="1"/>
          </p:cNvSpPr>
          <p:nvPr>
            <p:ph/>
          </p:nvPr>
        </p:nvSpPr>
        <p:spPr>
          <a:xfrm>
            <a:off x="990360" y="1294920"/>
            <a:ext cx="6933960" cy="541044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Frederick S. Perls originó esta teoría</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nfatiza que la gente debe encontrar su propia forma de vida y aceptar responsabilidad personal</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Mucho énfasis en tratar con temáticas del pasado</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Énfasis en hacer y experimentar</a:t>
            </a:r>
            <a:endParaRPr b="0" lang="en-US" sz="3600" spc="-1" strike="noStrike">
              <a:solidFill>
                <a:srgbClr val="ffffff"/>
              </a:solidFill>
              <a:latin typeface="Georgia"/>
            </a:endParaRPr>
          </a:p>
        </p:txBody>
      </p:sp>
      <p:pic>
        <p:nvPicPr>
          <p:cNvPr id="107" name="" descr=""/>
          <p:cNvPicPr/>
          <p:nvPr/>
        </p:nvPicPr>
        <p:blipFill>
          <a:blip r:embed="rId2"/>
          <a:stretch/>
        </p:blipFill>
        <p:spPr>
          <a:xfrm flipH="1">
            <a:off x="7391160" y="4572000"/>
            <a:ext cx="14842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456840"/>
            <a:ext cx="70102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Análisis transaccional (AT)</a:t>
            </a:r>
            <a:endParaRPr b="0" lang="en-US" sz="4400" spc="-1" strike="noStrike">
              <a:solidFill>
                <a:srgbClr val="ffffff"/>
              </a:solidFill>
              <a:latin typeface="Copperplate Gothic Bold"/>
            </a:endParaRPr>
          </a:p>
        </p:txBody>
      </p:sp>
      <p:sp>
        <p:nvSpPr>
          <p:cNvPr id="109" name="PlaceHolder 2"/>
          <p:cNvSpPr>
            <a:spLocks noGrp="1"/>
          </p:cNvSpPr>
          <p:nvPr>
            <p:ph/>
          </p:nvPr>
        </p:nvSpPr>
        <p:spPr>
          <a:xfrm>
            <a:off x="914400" y="1676160"/>
            <a:ext cx="7315200" cy="4647960"/>
          </a:xfrm>
          <a:prstGeom prst="rect">
            <a:avLst/>
          </a:prstGeom>
          <a:noFill/>
          <a:ln w="0">
            <a:noFill/>
          </a:ln>
        </p:spPr>
        <p:txBody>
          <a:bodyPr lIns="90000" rIns="90000" tIns="46800" bIns="46800" anchor="t">
            <a:normAutofit fontScale="95000"/>
          </a:bodyPr>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Teoría fundada por Eric Berne</a:t>
            </a:r>
            <a:endParaRPr b="0" lang="en-US" sz="3400" spc="-1" strike="noStrike">
              <a:solidFill>
                <a:srgbClr val="ffffff"/>
              </a:solidFill>
              <a:latin typeface="Georgia"/>
            </a:endParaRPr>
          </a:p>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Se centra en las decisiones y contratos del cliente</a:t>
            </a:r>
            <a:endParaRPr b="0" lang="en-US" sz="3400" spc="-1" strike="noStrike">
              <a:solidFill>
                <a:srgbClr val="ffffff"/>
              </a:solidFill>
              <a:latin typeface="Georgia"/>
            </a:endParaRPr>
          </a:p>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La filosofía básica es que el cliente tiene la posibilidad de elegir</a:t>
            </a:r>
            <a:endParaRPr b="0" lang="en-US" sz="3400" spc="-1" strike="noStrike">
              <a:solidFill>
                <a:srgbClr val="ffffff"/>
              </a:solidFill>
              <a:latin typeface="Georgia"/>
            </a:endParaRPr>
          </a:p>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Palabras clave – juego, decisión, escritura de vida, re-decisión, golpe y descuento</a:t>
            </a:r>
            <a:endParaRPr b="0" lang="en-US" sz="3400" spc="-1" strike="noStrike">
              <a:solidFill>
                <a:srgbClr val="ffffff"/>
              </a:solidFill>
              <a:latin typeface="Georgia"/>
            </a:endParaRPr>
          </a:p>
        </p:txBody>
      </p:sp>
      <p:pic>
        <p:nvPicPr>
          <p:cNvPr id="110" name="" descr=""/>
          <p:cNvPicPr/>
          <p:nvPr/>
        </p:nvPicPr>
        <p:blipFill>
          <a:blip r:embed="rId2"/>
          <a:stretch/>
        </p:blipFill>
        <p:spPr>
          <a:xfrm>
            <a:off x="7086600" y="1981080"/>
            <a:ext cx="1828800" cy="16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2T02:09:32Z</dcterms:created>
  <dc:creator>Palmer Halvorson</dc:creator>
  <dc:description/>
  <dc:language>en-US</dc:language>
  <cp:lastModifiedBy>Sede Administrativa</cp:lastModifiedBy>
  <dcterms:modified xsi:type="dcterms:W3CDTF">2005-09-16T14:56:13Z</dcterms:modified>
  <cp:revision>33</cp:revision>
  <dc:subject/>
  <dc:title>PowerPoint Presentation</dc:title>
</cp:coreProperties>
</file>